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C56E-889A-4C4D-AED9-C1E3CD4A256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2ED0-7E78-4F79-9A2E-A5FEAE31D483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3DFE-9ED5-4A8D-94DC-4C8C25D51F45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7121-B8AD-44BB-962C-C15B107297AE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CA4C-3A54-4B6E-88A5-176809AB7397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730E-A815-4B24-871F-4D6557A8D8C4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57FE-9D76-4BCC-A74E-6F30D336CE3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50F0-31DC-4A46-9B1B-68A0DDA3C8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7107-5C3A-4ED4-BF87-AA725869DF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4D70-5E4A-4B3F-9999-110D5A3771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C47A-7E8E-42ED-B71E-D7B9002BD5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80E9-89E6-4518-A289-B64A54C9F410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B685-27EF-47BD-8F74-ACC80AE5BCDC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1BC6-20D8-4AD0-ABE1-ED29C69F844F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2014-2020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: CBC 566,8 (CBC zew 135,8) o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łem: 700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2021-2027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szacunkowa wartość komponentów dla Polski – po transferze 15% z B do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Komponent A = 453,3 mln 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Komponent B = 106,7 mln E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A42B-F647-456D-BFD3-B85F999331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D471-6603-4708-AA60-031F83E82199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gramy Intereg na granicach zewnętrznych będą miały maksymalny poziom dofinansowania jak w obecnej perspektywie – tzn. 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766F-DA1C-42B8-AA56-3156FF334545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A72E-045D-4771-83B3-30029C74E9B5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61CC-2395-4D43-80B7-449C5CFE221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C474-BDDB-49AF-87DA-8092D30708FD}" type="slidenum">
              <a:rPr b="0" lang="pl-PL" sz="1200" spc="-1" strike="noStrike">
                <a:solidFill>
                  <a:srgbClr val="192f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540-DDEA-4571-93FA-4B99E85F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D4F-15BD-4D4F-9DDC-759E53D2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038-3FB3-4025-B398-7F1F9433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D33-A359-47F9-9856-9CBA6625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13B4-D665-4D56-AD3E-8233880B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AD3A-294D-4A95-87B1-958D53C8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88F3-AA69-4702-80F7-5E7AD87C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7935-7B01-4688-A705-F465999A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7AAF-9D04-411A-AE64-836D195C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E25C-0984-45E0-A2D2-9B72AB7A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0769-AD92-437A-86EB-12A8A85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251-B3AF-47E0-909A-D987D602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79AC-0912-42F8-85EA-49C016CB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F230-E8FC-491A-BDCE-B5FC2B08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EDA6-E9A6-4164-B79D-EB13D773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1A9D-8FCD-4D4A-8358-A44FA32A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C02A-5C51-4778-9109-63EA9E9C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788-A604-4E4D-AA10-6363BE20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3C6-C919-48F7-A798-24C54B6D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F70-722B-4064-97CE-52D18108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B9B-534C-4472-BDC7-A798CCE2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A5E-FC8C-46B0-8811-0AD86D96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C0A-0145-4D56-93A5-0B65FF2F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3A6-5065-4E18-8695-3B736BC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b8e9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b8e9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b8e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E22C-AF09-44B6-88D1-A2B098C6C90A}" type="slidenum">
              <a:rPr b="0" lang="pl-PL" sz="1200" spc="-1" strike="noStrike">
                <a:solidFill>
                  <a:srgbClr val="8b8e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rostokąt 6"/>
          <p:cNvSpPr/>
          <p:nvPr/>
        </p:nvSpPr>
        <p:spPr>
          <a:xfrm>
            <a:off x="4859280" y="1419120"/>
            <a:ext cx="1820880" cy="28702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72" name="Prostokąt 7"/>
          <p:cNvSpPr/>
          <p:nvPr/>
        </p:nvSpPr>
        <p:spPr>
          <a:xfrm>
            <a:off x="5003640" y="1708200"/>
            <a:ext cx="971640" cy="712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73" name="Prostokąt 8"/>
          <p:cNvSpPr/>
          <p:nvPr/>
        </p:nvSpPr>
        <p:spPr>
          <a:xfrm>
            <a:off x="324000" y="1419120"/>
            <a:ext cx="1819080" cy="28702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74" name="Prostokąt 9"/>
          <p:cNvSpPr/>
          <p:nvPr/>
        </p:nvSpPr>
        <p:spPr>
          <a:xfrm>
            <a:off x="468360" y="1708200"/>
            <a:ext cx="969840" cy="712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75" name="Prostokąt 10"/>
          <p:cNvSpPr/>
          <p:nvPr/>
        </p:nvSpPr>
        <p:spPr>
          <a:xfrm>
            <a:off x="2627280" y="1419120"/>
            <a:ext cx="1820880" cy="287028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76" name="Prostokąt 11"/>
          <p:cNvSpPr/>
          <p:nvPr/>
        </p:nvSpPr>
        <p:spPr>
          <a:xfrm>
            <a:off x="2771640" y="1708200"/>
            <a:ext cx="971640" cy="712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77" name="Prostokąt 12"/>
          <p:cNvSpPr/>
          <p:nvPr/>
        </p:nvSpPr>
        <p:spPr>
          <a:xfrm>
            <a:off x="7086600" y="1419120"/>
            <a:ext cx="1820880" cy="2870280"/>
          </a:xfrm>
          <a:prstGeom prst="rect">
            <a:avLst/>
          </a:prstGeom>
          <a:solidFill>
            <a:srgbClr val="f4f4f4"/>
          </a:solidFill>
          <a:ln w="2556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78" name="Prostokąt 13"/>
          <p:cNvSpPr/>
          <p:nvPr/>
        </p:nvSpPr>
        <p:spPr>
          <a:xfrm>
            <a:off x="7230960" y="1708200"/>
            <a:ext cx="970200" cy="712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79" name="Tytuł 1"/>
          <p:cNvSpPr/>
          <p:nvPr/>
        </p:nvSpPr>
        <p:spPr>
          <a:xfrm>
            <a:off x="5003640" y="4659480"/>
            <a:ext cx="4032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rostokąt 6"/>
          <p:cNvSpPr/>
          <p:nvPr/>
        </p:nvSpPr>
        <p:spPr>
          <a:xfrm>
            <a:off x="611280" y="1203480"/>
            <a:ext cx="1657080" cy="324000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19" name="Prostokąt 7"/>
          <p:cNvSpPr/>
          <p:nvPr/>
        </p:nvSpPr>
        <p:spPr>
          <a:xfrm>
            <a:off x="2629080" y="1203480"/>
            <a:ext cx="1655640" cy="324000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20" name="Prostokąt 8"/>
          <p:cNvSpPr/>
          <p:nvPr/>
        </p:nvSpPr>
        <p:spPr>
          <a:xfrm>
            <a:off x="4643280" y="1203480"/>
            <a:ext cx="1656000" cy="32302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21" name="Prostokąt 9"/>
          <p:cNvSpPr/>
          <p:nvPr/>
        </p:nvSpPr>
        <p:spPr>
          <a:xfrm>
            <a:off x="6732720" y="1203480"/>
            <a:ext cx="1655640" cy="324000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22" name="Tytuł 1"/>
          <p:cNvSpPr/>
          <p:nvPr/>
        </p:nvSpPr>
        <p:spPr>
          <a:xfrm>
            <a:off x="5003640" y="4659480"/>
            <a:ext cx="4032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rostokąt 6"/>
          <p:cNvSpPr/>
          <p:nvPr/>
        </p:nvSpPr>
        <p:spPr>
          <a:xfrm>
            <a:off x="250920" y="1419120"/>
            <a:ext cx="8137440" cy="49392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62" name="Prostokąt 7"/>
          <p:cNvSpPr/>
          <p:nvPr/>
        </p:nvSpPr>
        <p:spPr>
          <a:xfrm>
            <a:off x="250920" y="2077920"/>
            <a:ext cx="8137440" cy="493920"/>
          </a:xfrm>
          <a:prstGeom prst="rect">
            <a:avLst/>
          </a:prstGeom>
          <a:solidFill>
            <a:srgbClr val="f4f4f4"/>
          </a:solidFill>
          <a:ln w="2556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63" name="Prostokąt 8"/>
          <p:cNvSpPr/>
          <p:nvPr/>
        </p:nvSpPr>
        <p:spPr>
          <a:xfrm>
            <a:off x="250920" y="2725560"/>
            <a:ext cx="8137440" cy="49392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64" name="Prostokąt 9"/>
          <p:cNvSpPr/>
          <p:nvPr/>
        </p:nvSpPr>
        <p:spPr>
          <a:xfrm>
            <a:off x="250920" y="3373560"/>
            <a:ext cx="8137440" cy="493560"/>
          </a:xfrm>
          <a:prstGeom prst="rect">
            <a:avLst/>
          </a:prstGeom>
          <a:solidFill>
            <a:srgbClr val="f4f4f4"/>
          </a:solidFill>
          <a:ln w="2556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65" name="Prostokąt 10"/>
          <p:cNvSpPr/>
          <p:nvPr/>
        </p:nvSpPr>
        <p:spPr>
          <a:xfrm>
            <a:off x="250920" y="4022640"/>
            <a:ext cx="8137440" cy="49392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66" name="Prostokąt 11"/>
          <p:cNvSpPr/>
          <p:nvPr/>
        </p:nvSpPr>
        <p:spPr>
          <a:xfrm>
            <a:off x="250920" y="1058760"/>
            <a:ext cx="2087640" cy="7164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67" name="Tytuł 1"/>
          <p:cNvSpPr/>
          <p:nvPr/>
        </p:nvSpPr>
        <p:spPr>
          <a:xfrm>
            <a:off x="5003640" y="4659480"/>
            <a:ext cx="4032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rostokąt 6"/>
          <p:cNvSpPr/>
          <p:nvPr/>
        </p:nvSpPr>
        <p:spPr>
          <a:xfrm>
            <a:off x="684360" y="2994120"/>
            <a:ext cx="1871640" cy="460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507" name="Prostokąt 7"/>
          <p:cNvSpPr/>
          <p:nvPr/>
        </p:nvSpPr>
        <p:spPr>
          <a:xfrm>
            <a:off x="4572000" y="2982960"/>
            <a:ext cx="1873080" cy="460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508" name="Tytuł 1"/>
          <p:cNvSpPr/>
          <p:nvPr/>
        </p:nvSpPr>
        <p:spPr>
          <a:xfrm>
            <a:off x="3851280" y="4659480"/>
            <a:ext cx="5184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rostokąt 6"/>
          <p:cNvSpPr/>
          <p:nvPr/>
        </p:nvSpPr>
        <p:spPr>
          <a:xfrm>
            <a:off x="0" y="0"/>
            <a:ext cx="9144000" cy="516420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548" name="Prostokąt 7"/>
          <p:cNvSpPr/>
          <p:nvPr/>
        </p:nvSpPr>
        <p:spPr>
          <a:xfrm>
            <a:off x="3851280" y="3389400"/>
            <a:ext cx="3817800" cy="460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549" name="Prostokąt 8"/>
          <p:cNvSpPr/>
          <p:nvPr/>
        </p:nvSpPr>
        <p:spPr>
          <a:xfrm>
            <a:off x="3564000" y="1635120"/>
            <a:ext cx="35290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550" name="Tytuł 1"/>
          <p:cNvSpPr/>
          <p:nvPr/>
        </p:nvSpPr>
        <p:spPr>
          <a:xfrm>
            <a:off x="3851280" y="4659480"/>
            <a:ext cx="5184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ffffff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rostokąt 6"/>
          <p:cNvSpPr/>
          <p:nvPr/>
        </p:nvSpPr>
        <p:spPr>
          <a:xfrm>
            <a:off x="684360" y="3389400"/>
            <a:ext cx="6984720" cy="460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590" name="Prostokąt 7"/>
          <p:cNvSpPr/>
          <p:nvPr/>
        </p:nvSpPr>
        <p:spPr>
          <a:xfrm>
            <a:off x="3564000" y="1635120"/>
            <a:ext cx="35290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591" name="Tytuł 1"/>
          <p:cNvSpPr/>
          <p:nvPr/>
        </p:nvSpPr>
        <p:spPr>
          <a:xfrm>
            <a:off x="684360" y="484200"/>
            <a:ext cx="324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</a:t>
            </a:r>
            <a:br>
              <a:rPr sz="1300"/>
            </a:b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rostokąt 6"/>
          <p:cNvSpPr/>
          <p:nvPr/>
        </p:nvSpPr>
        <p:spPr>
          <a:xfrm rot="16200000">
            <a:off x="-1375200" y="2542320"/>
            <a:ext cx="4464000" cy="5904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631" name="Prostokąt 7"/>
          <p:cNvSpPr/>
          <p:nvPr/>
        </p:nvSpPr>
        <p:spPr>
          <a:xfrm>
            <a:off x="3564000" y="1635120"/>
            <a:ext cx="35290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pic>
        <p:nvPicPr>
          <p:cNvPr id="632" name="Obraz 8" descr="Logo portalu Face Book"/>
          <p:cNvPicPr/>
          <p:nvPr/>
        </p:nvPicPr>
        <p:blipFill>
          <a:blip r:embed="rId2"/>
          <a:stretch/>
        </p:blipFill>
        <p:spPr>
          <a:xfrm>
            <a:off x="4859280" y="2716200"/>
            <a:ext cx="862200" cy="863640"/>
          </a:xfrm>
          <a:prstGeom prst="rect">
            <a:avLst/>
          </a:prstGeom>
          <a:ln w="0">
            <a:noFill/>
          </a:ln>
        </p:spPr>
      </p:pic>
      <p:pic>
        <p:nvPicPr>
          <p:cNvPr id="633" name="Obraz 9" descr="Logo Instagram"/>
          <p:cNvPicPr/>
          <p:nvPr/>
        </p:nvPicPr>
        <p:blipFill>
          <a:blip r:embed="rId3"/>
          <a:stretch/>
        </p:blipFill>
        <p:spPr>
          <a:xfrm>
            <a:off x="4859280" y="3940200"/>
            <a:ext cx="868320" cy="863640"/>
          </a:xfrm>
          <a:prstGeom prst="rect">
            <a:avLst/>
          </a:prstGeom>
          <a:ln w="0">
            <a:noFill/>
          </a:ln>
        </p:spPr>
      </p:pic>
      <p:pic>
        <p:nvPicPr>
          <p:cNvPr id="634" name="Obraz 10" descr="Logo portalu Twitter"/>
          <p:cNvPicPr/>
          <p:nvPr/>
        </p:nvPicPr>
        <p:blipFill>
          <a:blip r:embed="rId4"/>
          <a:stretch/>
        </p:blipFill>
        <p:spPr>
          <a:xfrm>
            <a:off x="4859280" y="1492200"/>
            <a:ext cx="868320" cy="863640"/>
          </a:xfrm>
          <a:prstGeom prst="rect">
            <a:avLst/>
          </a:prstGeom>
          <a:ln w="0">
            <a:noFill/>
          </a:ln>
        </p:spPr>
      </p:pic>
      <p:pic>
        <p:nvPicPr>
          <p:cNvPr id="635" name="Obraz 11" descr="Logo_strony_internetowej_WWW"/>
          <p:cNvPicPr/>
          <p:nvPr/>
        </p:nvPicPr>
        <p:blipFill>
          <a:blip r:embed="rId5"/>
          <a:stretch/>
        </p:blipFill>
        <p:spPr>
          <a:xfrm>
            <a:off x="4862520" y="268200"/>
            <a:ext cx="876240" cy="863640"/>
          </a:xfrm>
          <a:prstGeom prst="rect">
            <a:avLst/>
          </a:prstGeom>
          <a:ln w="0">
            <a:noFill/>
          </a:ln>
        </p:spPr>
      </p:pic>
      <p:sp>
        <p:nvSpPr>
          <p:cNvPr id="636" name="Tytuł 1"/>
          <p:cNvSpPr/>
          <p:nvPr/>
        </p:nvSpPr>
        <p:spPr>
          <a:xfrm>
            <a:off x="6012000" y="156384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@MFIPR_GOV_PL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637" name="Tytuł 1"/>
          <p:cNvSpPr/>
          <p:nvPr/>
        </p:nvSpPr>
        <p:spPr>
          <a:xfrm>
            <a:off x="6093000" y="2787480"/>
            <a:ext cx="2800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@MinisterstwoFunduszy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iPolitykiRegionalnej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638" name="Tytuł 1"/>
          <p:cNvSpPr/>
          <p:nvPr/>
        </p:nvSpPr>
        <p:spPr>
          <a:xfrm>
            <a:off x="6084720" y="4011480"/>
            <a:ext cx="230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#wspolna2przez4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639" name="Tytuł 1"/>
          <p:cNvSpPr/>
          <p:nvPr/>
        </p:nvSpPr>
        <p:spPr>
          <a:xfrm>
            <a:off x="6012000" y="41112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www.gov.pl/web/</a:t>
            </a:r>
            <a:br>
              <a:rPr sz="2000"/>
            </a:b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fundusze-regiony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640" name="Tytuł 1"/>
          <p:cNvSpPr/>
          <p:nvPr/>
        </p:nvSpPr>
        <p:spPr>
          <a:xfrm>
            <a:off x="1332000" y="484200"/>
            <a:ext cx="259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</a:t>
            </a:r>
            <a:br>
              <a:rPr sz="1300"/>
            </a:b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rostokąt 6"/>
          <p:cNvSpPr/>
          <p:nvPr/>
        </p:nvSpPr>
        <p:spPr>
          <a:xfrm>
            <a:off x="1835280" y="2643120"/>
            <a:ext cx="2087280" cy="7164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680" name="Tytuł 1"/>
          <p:cNvSpPr/>
          <p:nvPr/>
        </p:nvSpPr>
        <p:spPr>
          <a:xfrm>
            <a:off x="3924360" y="4659480"/>
            <a:ext cx="5111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rostokąt 6"/>
          <p:cNvSpPr/>
          <p:nvPr/>
        </p:nvSpPr>
        <p:spPr>
          <a:xfrm>
            <a:off x="0" y="1635120"/>
            <a:ext cx="7524720" cy="107964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720" name="Prostokąt 7"/>
          <p:cNvSpPr/>
          <p:nvPr/>
        </p:nvSpPr>
        <p:spPr>
          <a:xfrm>
            <a:off x="0" y="581040"/>
            <a:ext cx="9144000" cy="460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721" name="Tytuł 1"/>
          <p:cNvSpPr/>
          <p:nvPr/>
        </p:nvSpPr>
        <p:spPr>
          <a:xfrm>
            <a:off x="3924360" y="4659480"/>
            <a:ext cx="5111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rostokąt 6"/>
          <p:cNvSpPr/>
          <p:nvPr/>
        </p:nvSpPr>
        <p:spPr>
          <a:xfrm>
            <a:off x="0" y="0"/>
            <a:ext cx="3851280" cy="51436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761" name="Prostokąt 7"/>
          <p:cNvSpPr/>
          <p:nvPr/>
        </p:nvSpPr>
        <p:spPr>
          <a:xfrm>
            <a:off x="4572000" y="4371840"/>
            <a:ext cx="4321080" cy="460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762" name="Tytuł 1"/>
          <p:cNvSpPr/>
          <p:nvPr/>
        </p:nvSpPr>
        <p:spPr>
          <a:xfrm>
            <a:off x="3924360" y="4659480"/>
            <a:ext cx="5111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b8e9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b8e9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b8e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E117-FBE8-4538-84F4-A14587DA1F4E}" type="slidenum">
              <a:rPr b="0" lang="pl-PL" sz="1200" spc="-1" strike="noStrike">
                <a:solidFill>
                  <a:srgbClr val="8b8e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rostokąt 6"/>
          <p:cNvSpPr/>
          <p:nvPr/>
        </p:nvSpPr>
        <p:spPr>
          <a:xfrm>
            <a:off x="3995640" y="195120"/>
            <a:ext cx="4969080" cy="47530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802" name="Prostokąt 7"/>
          <p:cNvSpPr/>
          <p:nvPr/>
        </p:nvSpPr>
        <p:spPr>
          <a:xfrm>
            <a:off x="4572000" y="915840"/>
            <a:ext cx="4572000" cy="331164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803" name="Tytuł 1"/>
          <p:cNvSpPr/>
          <p:nvPr/>
        </p:nvSpPr>
        <p:spPr>
          <a:xfrm>
            <a:off x="108000" y="4659480"/>
            <a:ext cx="4680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ytuł 1"/>
          <p:cNvSpPr/>
          <p:nvPr/>
        </p:nvSpPr>
        <p:spPr>
          <a:xfrm>
            <a:off x="3708360" y="4659480"/>
            <a:ext cx="5327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rostokąt 6"/>
          <p:cNvSpPr/>
          <p:nvPr/>
        </p:nvSpPr>
        <p:spPr>
          <a:xfrm>
            <a:off x="250920" y="1058760"/>
            <a:ext cx="2087640" cy="7164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882" name="Tytuł 1"/>
          <p:cNvSpPr/>
          <p:nvPr/>
        </p:nvSpPr>
        <p:spPr>
          <a:xfrm>
            <a:off x="4067280" y="46594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rostokąt 6"/>
          <p:cNvSpPr/>
          <p:nvPr/>
        </p:nvSpPr>
        <p:spPr>
          <a:xfrm>
            <a:off x="3851280" y="411120"/>
            <a:ext cx="2160720" cy="216072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22" name="Prostokąt 7"/>
          <p:cNvSpPr/>
          <p:nvPr/>
        </p:nvSpPr>
        <p:spPr>
          <a:xfrm>
            <a:off x="6227640" y="2787480"/>
            <a:ext cx="2160720" cy="216072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23" name="Prostokąt 8"/>
          <p:cNvSpPr/>
          <p:nvPr/>
        </p:nvSpPr>
        <p:spPr>
          <a:xfrm>
            <a:off x="3851280" y="2787480"/>
            <a:ext cx="2160720" cy="216072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24" name="Prostokąt 9"/>
          <p:cNvSpPr/>
          <p:nvPr/>
        </p:nvSpPr>
        <p:spPr>
          <a:xfrm>
            <a:off x="6227640" y="411120"/>
            <a:ext cx="2160720" cy="216072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25" name="Prostokąt 10"/>
          <p:cNvSpPr/>
          <p:nvPr/>
        </p:nvSpPr>
        <p:spPr>
          <a:xfrm>
            <a:off x="250920" y="1058760"/>
            <a:ext cx="2087640" cy="7164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26" name="Tytuł 1"/>
          <p:cNvSpPr/>
          <p:nvPr/>
        </p:nvSpPr>
        <p:spPr>
          <a:xfrm>
            <a:off x="34920" y="4659480"/>
            <a:ext cx="5184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27" name="pole tekstowe 12"/>
          <p:cNvSpPr/>
          <p:nvPr/>
        </p:nvSpPr>
        <p:spPr>
          <a:xfrm>
            <a:off x="6407280" y="666720"/>
            <a:ext cx="18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28" name="pole tekstowe 13"/>
          <p:cNvSpPr/>
          <p:nvPr/>
        </p:nvSpPr>
        <p:spPr>
          <a:xfrm>
            <a:off x="4030560" y="2932200"/>
            <a:ext cx="180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29" name="pole tekstowe 14"/>
          <p:cNvSpPr/>
          <p:nvPr/>
        </p:nvSpPr>
        <p:spPr>
          <a:xfrm>
            <a:off x="6381720" y="2962440"/>
            <a:ext cx="180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rostokąt 6"/>
          <p:cNvSpPr/>
          <p:nvPr/>
        </p:nvSpPr>
        <p:spPr>
          <a:xfrm>
            <a:off x="4859280" y="1419120"/>
            <a:ext cx="1820880" cy="28702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69" name="Prostokąt 7"/>
          <p:cNvSpPr/>
          <p:nvPr/>
        </p:nvSpPr>
        <p:spPr>
          <a:xfrm>
            <a:off x="5003640" y="1708200"/>
            <a:ext cx="971640" cy="712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70" name="Prostokąt 8"/>
          <p:cNvSpPr/>
          <p:nvPr/>
        </p:nvSpPr>
        <p:spPr>
          <a:xfrm>
            <a:off x="324000" y="1419120"/>
            <a:ext cx="1819080" cy="28702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71" name="Prostokąt 9"/>
          <p:cNvSpPr/>
          <p:nvPr/>
        </p:nvSpPr>
        <p:spPr>
          <a:xfrm>
            <a:off x="468360" y="1708200"/>
            <a:ext cx="969840" cy="712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72" name="Prostokąt 10"/>
          <p:cNvSpPr/>
          <p:nvPr/>
        </p:nvSpPr>
        <p:spPr>
          <a:xfrm>
            <a:off x="2627280" y="1419120"/>
            <a:ext cx="1820880" cy="287028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73" name="Prostokąt 11"/>
          <p:cNvSpPr/>
          <p:nvPr/>
        </p:nvSpPr>
        <p:spPr>
          <a:xfrm>
            <a:off x="2771640" y="1708200"/>
            <a:ext cx="971640" cy="712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74" name="Prostokąt 12"/>
          <p:cNvSpPr/>
          <p:nvPr/>
        </p:nvSpPr>
        <p:spPr>
          <a:xfrm>
            <a:off x="7086600" y="1419120"/>
            <a:ext cx="1820880" cy="2870280"/>
          </a:xfrm>
          <a:prstGeom prst="rect">
            <a:avLst/>
          </a:prstGeom>
          <a:solidFill>
            <a:srgbClr val="f4f4f4"/>
          </a:solidFill>
          <a:ln w="2556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75" name="Prostokąt 13"/>
          <p:cNvSpPr/>
          <p:nvPr/>
        </p:nvSpPr>
        <p:spPr>
          <a:xfrm>
            <a:off x="7230960" y="1708200"/>
            <a:ext cx="970200" cy="712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76" name="Tytuł 1"/>
          <p:cNvSpPr/>
          <p:nvPr/>
        </p:nvSpPr>
        <p:spPr>
          <a:xfrm>
            <a:off x="5003640" y="4659480"/>
            <a:ext cx="4032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rostokąt 6"/>
          <p:cNvSpPr/>
          <p:nvPr/>
        </p:nvSpPr>
        <p:spPr>
          <a:xfrm>
            <a:off x="611280" y="1203480"/>
            <a:ext cx="1657080" cy="324000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16" name="Prostokąt 7"/>
          <p:cNvSpPr/>
          <p:nvPr/>
        </p:nvSpPr>
        <p:spPr>
          <a:xfrm>
            <a:off x="2629080" y="1203480"/>
            <a:ext cx="1655640" cy="324000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17" name="Prostokąt 8"/>
          <p:cNvSpPr/>
          <p:nvPr/>
        </p:nvSpPr>
        <p:spPr>
          <a:xfrm>
            <a:off x="4643280" y="1203480"/>
            <a:ext cx="1656000" cy="32302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18" name="Prostokąt 9"/>
          <p:cNvSpPr/>
          <p:nvPr/>
        </p:nvSpPr>
        <p:spPr>
          <a:xfrm>
            <a:off x="6732720" y="1203480"/>
            <a:ext cx="1655640" cy="324000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19" name="Tytuł 1"/>
          <p:cNvSpPr/>
          <p:nvPr/>
        </p:nvSpPr>
        <p:spPr>
          <a:xfrm>
            <a:off x="5003640" y="4659480"/>
            <a:ext cx="4032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rostokąt 6"/>
          <p:cNvSpPr/>
          <p:nvPr/>
        </p:nvSpPr>
        <p:spPr>
          <a:xfrm>
            <a:off x="250920" y="1419120"/>
            <a:ext cx="8137440" cy="49392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59" name="Prostokąt 7"/>
          <p:cNvSpPr/>
          <p:nvPr/>
        </p:nvSpPr>
        <p:spPr>
          <a:xfrm>
            <a:off x="250920" y="2077920"/>
            <a:ext cx="8137440" cy="493920"/>
          </a:xfrm>
          <a:prstGeom prst="rect">
            <a:avLst/>
          </a:prstGeom>
          <a:solidFill>
            <a:srgbClr val="f4f4f4"/>
          </a:solidFill>
          <a:ln w="2556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60" name="Prostokąt 8"/>
          <p:cNvSpPr/>
          <p:nvPr/>
        </p:nvSpPr>
        <p:spPr>
          <a:xfrm>
            <a:off x="250920" y="2725560"/>
            <a:ext cx="8137440" cy="49392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61" name="Prostokąt 9"/>
          <p:cNvSpPr/>
          <p:nvPr/>
        </p:nvSpPr>
        <p:spPr>
          <a:xfrm>
            <a:off x="250920" y="3373560"/>
            <a:ext cx="8137440" cy="493560"/>
          </a:xfrm>
          <a:prstGeom prst="rect">
            <a:avLst/>
          </a:prstGeom>
          <a:solidFill>
            <a:srgbClr val="f4f4f4"/>
          </a:solidFill>
          <a:ln w="2556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62" name="Prostokąt 10"/>
          <p:cNvSpPr/>
          <p:nvPr/>
        </p:nvSpPr>
        <p:spPr>
          <a:xfrm>
            <a:off x="250920" y="4022640"/>
            <a:ext cx="8137440" cy="49392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63" name="Prostokąt 11"/>
          <p:cNvSpPr/>
          <p:nvPr/>
        </p:nvSpPr>
        <p:spPr>
          <a:xfrm>
            <a:off x="250920" y="1058760"/>
            <a:ext cx="2087640" cy="7164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64" name="Tytuł 1"/>
          <p:cNvSpPr/>
          <p:nvPr/>
        </p:nvSpPr>
        <p:spPr>
          <a:xfrm>
            <a:off x="5003640" y="4659480"/>
            <a:ext cx="4032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rostokąt 6"/>
          <p:cNvSpPr/>
          <p:nvPr/>
        </p:nvSpPr>
        <p:spPr>
          <a:xfrm>
            <a:off x="684360" y="2994120"/>
            <a:ext cx="1871640" cy="460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104" name="Prostokąt 7"/>
          <p:cNvSpPr/>
          <p:nvPr/>
        </p:nvSpPr>
        <p:spPr>
          <a:xfrm>
            <a:off x="4572000" y="2982960"/>
            <a:ext cx="1873080" cy="460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105" name="Tytuł 1"/>
          <p:cNvSpPr/>
          <p:nvPr/>
        </p:nvSpPr>
        <p:spPr>
          <a:xfrm>
            <a:off x="3851280" y="4659480"/>
            <a:ext cx="5184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rostokąt 6"/>
          <p:cNvSpPr/>
          <p:nvPr/>
        </p:nvSpPr>
        <p:spPr>
          <a:xfrm>
            <a:off x="0" y="0"/>
            <a:ext cx="9144000" cy="516420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145" name="Prostokąt 7"/>
          <p:cNvSpPr/>
          <p:nvPr/>
        </p:nvSpPr>
        <p:spPr>
          <a:xfrm>
            <a:off x="3851280" y="3389400"/>
            <a:ext cx="3817800" cy="460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146" name="Prostokąt 8"/>
          <p:cNvSpPr/>
          <p:nvPr/>
        </p:nvSpPr>
        <p:spPr>
          <a:xfrm>
            <a:off x="3564000" y="1635120"/>
            <a:ext cx="35290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147" name="Tytuł 1"/>
          <p:cNvSpPr/>
          <p:nvPr/>
        </p:nvSpPr>
        <p:spPr>
          <a:xfrm>
            <a:off x="3851280" y="4659480"/>
            <a:ext cx="5184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ffffff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rostokąt 6"/>
          <p:cNvSpPr/>
          <p:nvPr/>
        </p:nvSpPr>
        <p:spPr>
          <a:xfrm>
            <a:off x="684360" y="3389400"/>
            <a:ext cx="6984720" cy="460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187" name="Prostokąt 7"/>
          <p:cNvSpPr/>
          <p:nvPr/>
        </p:nvSpPr>
        <p:spPr>
          <a:xfrm>
            <a:off x="3564000" y="1635120"/>
            <a:ext cx="35290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188" name="Tytuł 1"/>
          <p:cNvSpPr/>
          <p:nvPr/>
        </p:nvSpPr>
        <p:spPr>
          <a:xfrm>
            <a:off x="684360" y="484200"/>
            <a:ext cx="324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</a:t>
            </a:r>
            <a:br>
              <a:rPr sz="1300"/>
            </a:b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rostokąt 6"/>
          <p:cNvSpPr/>
          <p:nvPr/>
        </p:nvSpPr>
        <p:spPr>
          <a:xfrm>
            <a:off x="1835280" y="2643120"/>
            <a:ext cx="2087280" cy="7164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83" name="Tytuł 1"/>
          <p:cNvSpPr/>
          <p:nvPr/>
        </p:nvSpPr>
        <p:spPr>
          <a:xfrm>
            <a:off x="3924360" y="4659480"/>
            <a:ext cx="5111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rostokąt 6"/>
          <p:cNvSpPr/>
          <p:nvPr/>
        </p:nvSpPr>
        <p:spPr>
          <a:xfrm rot="16200000">
            <a:off x="-1375200" y="2542320"/>
            <a:ext cx="4464000" cy="5904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28" name="Prostokąt 7"/>
          <p:cNvSpPr/>
          <p:nvPr/>
        </p:nvSpPr>
        <p:spPr>
          <a:xfrm>
            <a:off x="3564000" y="1635120"/>
            <a:ext cx="35290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pic>
        <p:nvPicPr>
          <p:cNvPr id="1229" name="Obraz 8" descr="Logo portalu Face Book"/>
          <p:cNvPicPr/>
          <p:nvPr/>
        </p:nvPicPr>
        <p:blipFill>
          <a:blip r:embed="rId2"/>
          <a:stretch/>
        </p:blipFill>
        <p:spPr>
          <a:xfrm>
            <a:off x="4859280" y="2716200"/>
            <a:ext cx="862200" cy="863640"/>
          </a:xfrm>
          <a:prstGeom prst="rect">
            <a:avLst/>
          </a:prstGeom>
          <a:ln w="0">
            <a:noFill/>
          </a:ln>
        </p:spPr>
      </p:pic>
      <p:pic>
        <p:nvPicPr>
          <p:cNvPr id="1230" name="Obraz 9" descr="Logo Instagram"/>
          <p:cNvPicPr/>
          <p:nvPr/>
        </p:nvPicPr>
        <p:blipFill>
          <a:blip r:embed="rId3"/>
          <a:stretch/>
        </p:blipFill>
        <p:spPr>
          <a:xfrm>
            <a:off x="4859280" y="3940200"/>
            <a:ext cx="868320" cy="863640"/>
          </a:xfrm>
          <a:prstGeom prst="rect">
            <a:avLst/>
          </a:prstGeom>
          <a:ln w="0">
            <a:noFill/>
          </a:ln>
        </p:spPr>
      </p:pic>
      <p:pic>
        <p:nvPicPr>
          <p:cNvPr id="1231" name="Obraz 10" descr="Logo portalu Twitter"/>
          <p:cNvPicPr/>
          <p:nvPr/>
        </p:nvPicPr>
        <p:blipFill>
          <a:blip r:embed="rId4"/>
          <a:stretch/>
        </p:blipFill>
        <p:spPr>
          <a:xfrm>
            <a:off x="4859280" y="1492200"/>
            <a:ext cx="868320" cy="863640"/>
          </a:xfrm>
          <a:prstGeom prst="rect">
            <a:avLst/>
          </a:prstGeom>
          <a:ln w="0">
            <a:noFill/>
          </a:ln>
        </p:spPr>
      </p:pic>
      <p:pic>
        <p:nvPicPr>
          <p:cNvPr id="1232" name="Obraz 11" descr="Logo_strony_internetowej_WWW"/>
          <p:cNvPicPr/>
          <p:nvPr/>
        </p:nvPicPr>
        <p:blipFill>
          <a:blip r:embed="rId5"/>
          <a:stretch/>
        </p:blipFill>
        <p:spPr>
          <a:xfrm>
            <a:off x="4862520" y="268200"/>
            <a:ext cx="876240" cy="863640"/>
          </a:xfrm>
          <a:prstGeom prst="rect">
            <a:avLst/>
          </a:prstGeom>
          <a:ln w="0">
            <a:noFill/>
          </a:ln>
        </p:spPr>
      </p:pic>
      <p:sp>
        <p:nvSpPr>
          <p:cNvPr id="1233" name="Tytuł 1"/>
          <p:cNvSpPr/>
          <p:nvPr/>
        </p:nvSpPr>
        <p:spPr>
          <a:xfrm>
            <a:off x="6012000" y="156384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@MFIPR_GOV_PL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34" name="Tytuł 1"/>
          <p:cNvSpPr/>
          <p:nvPr/>
        </p:nvSpPr>
        <p:spPr>
          <a:xfrm>
            <a:off x="6093000" y="2787480"/>
            <a:ext cx="2800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@MinisterstwoFunduszy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iPolitykiRegionalnej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35" name="Tytuł 1"/>
          <p:cNvSpPr/>
          <p:nvPr/>
        </p:nvSpPr>
        <p:spPr>
          <a:xfrm>
            <a:off x="6084720" y="4011480"/>
            <a:ext cx="230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#wspolna2przez4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36" name="Tytuł 1"/>
          <p:cNvSpPr/>
          <p:nvPr/>
        </p:nvSpPr>
        <p:spPr>
          <a:xfrm>
            <a:off x="6012000" y="41112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www.gov.pl/web/</a:t>
            </a:r>
            <a:br>
              <a:rPr sz="2000"/>
            </a:br>
            <a:r>
              <a:rPr b="0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fundusze-regiony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37" name="Tytuł 1"/>
          <p:cNvSpPr/>
          <p:nvPr/>
        </p:nvSpPr>
        <p:spPr>
          <a:xfrm>
            <a:off x="1332000" y="484200"/>
            <a:ext cx="259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</a:t>
            </a:r>
            <a:br>
              <a:rPr sz="1300"/>
            </a:b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rostokąt 6"/>
          <p:cNvSpPr/>
          <p:nvPr/>
        </p:nvSpPr>
        <p:spPr>
          <a:xfrm>
            <a:off x="0" y="1635120"/>
            <a:ext cx="7524720" cy="107964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3" name="Prostokąt 7"/>
          <p:cNvSpPr/>
          <p:nvPr/>
        </p:nvSpPr>
        <p:spPr>
          <a:xfrm>
            <a:off x="0" y="581040"/>
            <a:ext cx="9144000" cy="460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4" name="Tytuł 1"/>
          <p:cNvSpPr/>
          <p:nvPr/>
        </p:nvSpPr>
        <p:spPr>
          <a:xfrm>
            <a:off x="3924360" y="4659480"/>
            <a:ext cx="5111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rostokąt 6"/>
          <p:cNvSpPr/>
          <p:nvPr/>
        </p:nvSpPr>
        <p:spPr>
          <a:xfrm>
            <a:off x="0" y="0"/>
            <a:ext cx="3851280" cy="51436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64" name="Prostokąt 7"/>
          <p:cNvSpPr/>
          <p:nvPr/>
        </p:nvSpPr>
        <p:spPr>
          <a:xfrm>
            <a:off x="4572000" y="4371840"/>
            <a:ext cx="4321080" cy="4608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65" name="Tytuł 1"/>
          <p:cNvSpPr/>
          <p:nvPr/>
        </p:nvSpPr>
        <p:spPr>
          <a:xfrm>
            <a:off x="3924360" y="4659480"/>
            <a:ext cx="5111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3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rostokąt 6"/>
          <p:cNvSpPr/>
          <p:nvPr/>
        </p:nvSpPr>
        <p:spPr>
          <a:xfrm>
            <a:off x="3995640" y="195120"/>
            <a:ext cx="4969080" cy="475308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205" name="Prostokąt 7"/>
          <p:cNvSpPr/>
          <p:nvPr/>
        </p:nvSpPr>
        <p:spPr>
          <a:xfrm>
            <a:off x="4572000" y="915840"/>
            <a:ext cx="4572000" cy="331164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206" name="Tytuł 1"/>
          <p:cNvSpPr/>
          <p:nvPr/>
        </p:nvSpPr>
        <p:spPr>
          <a:xfrm>
            <a:off x="108000" y="4659480"/>
            <a:ext cx="4680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ytuł 1"/>
          <p:cNvSpPr/>
          <p:nvPr/>
        </p:nvSpPr>
        <p:spPr>
          <a:xfrm>
            <a:off x="3708360" y="4659480"/>
            <a:ext cx="5327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rostokąt 6"/>
          <p:cNvSpPr/>
          <p:nvPr/>
        </p:nvSpPr>
        <p:spPr>
          <a:xfrm>
            <a:off x="250920" y="1058760"/>
            <a:ext cx="2087640" cy="7164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285" name="Tytuł 1"/>
          <p:cNvSpPr/>
          <p:nvPr/>
        </p:nvSpPr>
        <p:spPr>
          <a:xfrm>
            <a:off x="4067280" y="46594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rostokąt 6"/>
          <p:cNvSpPr/>
          <p:nvPr/>
        </p:nvSpPr>
        <p:spPr>
          <a:xfrm>
            <a:off x="3851280" y="411120"/>
            <a:ext cx="2160720" cy="216072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25" name="Prostokąt 7"/>
          <p:cNvSpPr/>
          <p:nvPr/>
        </p:nvSpPr>
        <p:spPr>
          <a:xfrm>
            <a:off x="6227640" y="2787480"/>
            <a:ext cx="2160720" cy="216072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26" name="Prostokąt 8"/>
          <p:cNvSpPr/>
          <p:nvPr/>
        </p:nvSpPr>
        <p:spPr>
          <a:xfrm>
            <a:off x="3851280" y="2787480"/>
            <a:ext cx="2160720" cy="216072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27" name="Prostokąt 9"/>
          <p:cNvSpPr/>
          <p:nvPr/>
        </p:nvSpPr>
        <p:spPr>
          <a:xfrm>
            <a:off x="6227640" y="411120"/>
            <a:ext cx="2160720" cy="2160720"/>
          </a:xfrm>
          <a:prstGeom prst="rect">
            <a:avLst/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28" name="Prostokąt 10"/>
          <p:cNvSpPr/>
          <p:nvPr/>
        </p:nvSpPr>
        <p:spPr>
          <a:xfrm>
            <a:off x="250920" y="1058760"/>
            <a:ext cx="2087640" cy="71640"/>
          </a:xfrm>
          <a:prstGeom prst="rect">
            <a:avLst/>
          </a:prstGeom>
          <a:solidFill>
            <a:srgbClr val="0095d8"/>
          </a:solidFill>
          <a:ln w="25560">
            <a:solidFill>
              <a:srgbClr val="009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29" name="Tytuł 1"/>
          <p:cNvSpPr/>
          <p:nvPr/>
        </p:nvSpPr>
        <p:spPr>
          <a:xfrm>
            <a:off x="34920" y="4659480"/>
            <a:ext cx="5184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Lato Heavy"/>
                <a:ea typeface="Lato Heavy"/>
              </a:rPr>
              <a:t>MINISTERSTWO FUNDUSZY I POLITYKI REGIONALNEJ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30" name="pole tekstowe 12"/>
          <p:cNvSpPr/>
          <p:nvPr/>
        </p:nvSpPr>
        <p:spPr>
          <a:xfrm>
            <a:off x="6407280" y="666720"/>
            <a:ext cx="18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31" name="pole tekstowe 13"/>
          <p:cNvSpPr/>
          <p:nvPr/>
        </p:nvSpPr>
        <p:spPr>
          <a:xfrm>
            <a:off x="4030560" y="2932200"/>
            <a:ext cx="180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32" name="pole tekstowe 14"/>
          <p:cNvSpPr/>
          <p:nvPr/>
        </p:nvSpPr>
        <p:spPr>
          <a:xfrm>
            <a:off x="6381720" y="2962440"/>
            <a:ext cx="180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Lato Heavy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1" marL="3747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192f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192f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2f5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50920" y="1779480"/>
            <a:ext cx="6842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Lato Heavy"/>
                <a:ea typeface="Lato Heavy"/>
              </a:rPr>
              <a:t>Przygotowanie programów transgranicznych na lata 2021-2027</a:t>
            </a:r>
            <a:br>
              <a:rPr sz="3000"/>
            </a:br>
            <a:endParaRPr b="0" lang="en-US" sz="30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3924000" y="3219120"/>
            <a:ext cx="481644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b8e97"/>
                </a:solidFill>
                <a:latin typeface="Lato Medium"/>
                <a:ea typeface="Lato Medium"/>
              </a:rPr>
              <a:t>	</a:t>
            </a:r>
            <a:r>
              <a:rPr b="0" lang="pl-PL" sz="1400" spc="-1" strike="noStrike">
                <a:solidFill>
                  <a:srgbClr val="8b8e97"/>
                </a:solidFill>
                <a:latin typeface="Lato Medium"/>
                <a:ea typeface="Lato Medium"/>
              </a:rPr>
              <a:t>          </a:t>
            </a:r>
            <a:r>
              <a:rPr b="0" lang="pl-PL" sz="1400" spc="-1" strike="noStrike">
                <a:solidFill>
                  <a:srgbClr val="8b8e97"/>
                </a:solidFill>
                <a:latin typeface="Lato Medium"/>
                <a:ea typeface="Lato Medium"/>
              </a:rPr>
              <a:t>FORUM REGIONÓW GRANICZNYCH</a:t>
            </a:r>
            <a:endParaRPr b="0" lang="en-US" sz="14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b8e97"/>
                </a:solidFill>
                <a:latin typeface="Lato Medium"/>
                <a:ea typeface="Lato Medium"/>
              </a:rPr>
              <a:t>	</a:t>
            </a:r>
            <a:r>
              <a:rPr b="0" lang="pl-PL" sz="1400" spc="-1" strike="noStrike">
                <a:solidFill>
                  <a:srgbClr val="8b8e97"/>
                </a:solidFill>
                <a:latin typeface="Lato Medium"/>
                <a:ea typeface="Lato Medium"/>
              </a:rPr>
              <a:t>	</a:t>
            </a:r>
            <a:r>
              <a:rPr b="0" lang="pl-PL" sz="1400" spc="-1" strike="noStrike">
                <a:solidFill>
                  <a:srgbClr val="8b8e97"/>
                </a:solidFill>
                <a:latin typeface="Lato Medium"/>
                <a:ea typeface="Lato Medium"/>
              </a:rPr>
              <a:t>RACIBÓRZ, 1-2 października 2020 </a:t>
            </a:r>
            <a:endParaRPr b="0" lang="en-US" sz="1400" spc="-1" strike="noStrike">
              <a:solidFill>
                <a:srgbClr val="192f51"/>
              </a:solidFill>
              <a:latin typeface="Arial"/>
            </a:endParaRPr>
          </a:p>
        </p:txBody>
      </p:sp>
      <p:pic>
        <p:nvPicPr>
          <p:cNvPr id="1285" name="Picture 4" descr="C:\Users\JAROSL~2\AppData\Local\Temp\notesE9760C\white_logo_interreg30.png"/>
          <p:cNvPicPr/>
          <p:nvPr/>
        </p:nvPicPr>
        <p:blipFill>
          <a:blip r:embed="rId1"/>
          <a:stretch/>
        </p:blipFill>
        <p:spPr>
          <a:xfrm>
            <a:off x="576360" y="3724200"/>
            <a:ext cx="42829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Diagram 2" descr=""/>
          <p:cNvPicPr/>
          <p:nvPr/>
        </p:nvPicPr>
        <p:blipFill>
          <a:blip r:embed="rId1"/>
          <a:stretch/>
        </p:blipFill>
        <p:spPr>
          <a:xfrm>
            <a:off x="884160" y="1079640"/>
            <a:ext cx="7053480" cy="4065480"/>
          </a:xfrm>
          <a:prstGeom prst="rect">
            <a:avLst/>
          </a:prstGeom>
          <a:ln w="0">
            <a:noFill/>
          </a:ln>
        </p:spPr>
      </p:pic>
      <p:sp>
        <p:nvSpPr>
          <p:cNvPr id="1321" name="pole tekstowe 8"/>
          <p:cNvSpPr/>
          <p:nvPr/>
        </p:nvSpPr>
        <p:spPr>
          <a:xfrm>
            <a:off x="324000" y="1320840"/>
            <a:ext cx="4690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2f51"/>
                </a:solidFill>
                <a:latin typeface="Arial"/>
                <a:ea typeface="Lato Medium"/>
              </a:rPr>
              <a:t>Pierwsze posiedzenie </a:t>
            </a:r>
            <a:endParaRPr b="0" lang="en-US" sz="1700" spc="-1" strike="noStrike">
              <a:solidFill>
                <a:srgbClr val="192f5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2f51"/>
                </a:solidFill>
                <a:latin typeface="Arial"/>
                <a:ea typeface="Lato Medium"/>
              </a:rPr>
              <a:t>grupy roboczej ds. nowego programu </a:t>
            </a:r>
            <a:endParaRPr b="0" lang="en-US" sz="1700" spc="-1" strike="noStrike">
              <a:solidFill>
                <a:srgbClr val="192f51"/>
              </a:solidFill>
              <a:latin typeface="Calibri"/>
            </a:endParaRPr>
          </a:p>
        </p:txBody>
      </p:sp>
      <p:pic>
        <p:nvPicPr>
          <p:cNvPr id="1322" name="Grafika 7" descr="Kalendarz przekładany"/>
          <p:cNvPicPr/>
          <p:nvPr/>
        </p:nvPicPr>
        <p:blipFill>
          <a:blip r:embed="rId2"/>
          <a:stretch/>
        </p:blipFill>
        <p:spPr>
          <a:xfrm>
            <a:off x="250920" y="334152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323" name="pole tekstowe 8"/>
          <p:cNvSpPr/>
          <p:nvPr/>
        </p:nvSpPr>
        <p:spPr>
          <a:xfrm>
            <a:off x="611280" y="4025880"/>
            <a:ext cx="7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92f51"/>
                </a:solidFill>
                <a:latin typeface="Lato Medium"/>
                <a:ea typeface="Lato Medium"/>
              </a:rPr>
              <a:t>2019</a:t>
            </a: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pic>
        <p:nvPicPr>
          <p:cNvPr id="1324" name="Grafika 9" descr="Kalendarz przekładany"/>
          <p:cNvPicPr/>
          <p:nvPr/>
        </p:nvPicPr>
        <p:blipFill>
          <a:blip r:embed="rId3"/>
          <a:stretch/>
        </p:blipFill>
        <p:spPr>
          <a:xfrm>
            <a:off x="7707240" y="684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325" name="pole tekstowe 11"/>
          <p:cNvSpPr/>
          <p:nvPr/>
        </p:nvSpPr>
        <p:spPr>
          <a:xfrm>
            <a:off x="8064360" y="13431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92f51"/>
                </a:solidFill>
                <a:latin typeface="Lato Medium"/>
                <a:ea typeface="Lato Medium"/>
              </a:rPr>
              <a:t>2020</a:t>
            </a: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326" name="Tytuł 1"/>
          <p:cNvSpPr/>
          <p:nvPr/>
        </p:nvSpPr>
        <p:spPr>
          <a:xfrm>
            <a:off x="258840" y="133200"/>
            <a:ext cx="88930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Stan prac nad programami CBC zarządzanymi przez Polskę 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perspektywa 2021-2027</a:t>
            </a:r>
            <a:endParaRPr b="0" lang="en-US" sz="20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23640" y="26784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Stan prac nad programami CBC zarządzanymi przez Polskę  perspektywa 2021-2027</a:t>
            </a: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pic>
        <p:nvPicPr>
          <p:cNvPr id="1328" name="Diagram 2" descr=""/>
          <p:cNvPicPr/>
          <p:nvPr/>
        </p:nvPicPr>
        <p:blipFill>
          <a:blip r:embed="rId1"/>
          <a:stretch/>
        </p:blipFill>
        <p:spPr>
          <a:xfrm>
            <a:off x="828720" y="1347840"/>
            <a:ext cx="7053120" cy="4065480"/>
          </a:xfrm>
          <a:prstGeom prst="rect">
            <a:avLst/>
          </a:prstGeom>
          <a:ln w="0">
            <a:noFill/>
          </a:ln>
        </p:spPr>
      </p:pic>
      <p:sp>
        <p:nvSpPr>
          <p:cNvPr id="1329" name="pole tekstowe 8"/>
          <p:cNvSpPr/>
          <p:nvPr/>
        </p:nvSpPr>
        <p:spPr>
          <a:xfrm>
            <a:off x="324000" y="1320840"/>
            <a:ext cx="4690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2f51"/>
                </a:solidFill>
                <a:latin typeface="Arial"/>
                <a:ea typeface="Lato Medium"/>
              </a:rPr>
              <a:t>Planowany termin zatwierdzenia programu przez grupę roboczą</a:t>
            </a:r>
            <a:endParaRPr b="0" lang="en-US" sz="1700" spc="-1" strike="noStrike">
              <a:solidFill>
                <a:srgbClr val="192f51"/>
              </a:solidFill>
              <a:latin typeface="Calibri"/>
            </a:endParaRPr>
          </a:p>
        </p:txBody>
      </p:sp>
      <p:pic>
        <p:nvPicPr>
          <p:cNvPr id="1330" name="Grafika 7" descr="Kalendarz przekładany"/>
          <p:cNvPicPr/>
          <p:nvPr/>
        </p:nvPicPr>
        <p:blipFill>
          <a:blip r:embed="rId2"/>
          <a:stretch/>
        </p:blipFill>
        <p:spPr>
          <a:xfrm>
            <a:off x="250920" y="334152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331" name="pole tekstowe 8"/>
          <p:cNvSpPr/>
          <p:nvPr/>
        </p:nvSpPr>
        <p:spPr>
          <a:xfrm>
            <a:off x="611280" y="4025880"/>
            <a:ext cx="7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92f51"/>
                </a:solidFill>
                <a:latin typeface="Lato Medium"/>
                <a:ea typeface="Lato Medium"/>
              </a:rPr>
              <a:t>2020</a:t>
            </a: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pic>
        <p:nvPicPr>
          <p:cNvPr id="1332" name="Grafika 9" descr="Kalendarz przekładany"/>
          <p:cNvPicPr/>
          <p:nvPr/>
        </p:nvPicPr>
        <p:blipFill>
          <a:blip r:embed="rId3"/>
          <a:stretch/>
        </p:blipFill>
        <p:spPr>
          <a:xfrm>
            <a:off x="7707240" y="684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333" name="pole tekstowe 11"/>
          <p:cNvSpPr/>
          <p:nvPr/>
        </p:nvSpPr>
        <p:spPr>
          <a:xfrm>
            <a:off x="8064360" y="13431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92f51"/>
                </a:solidFill>
                <a:latin typeface="Lato Medium"/>
                <a:ea typeface="Lato Medium"/>
              </a:rPr>
              <a:t>2021</a:t>
            </a: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24000" y="267840"/>
            <a:ext cx="6913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Stan prac nad programami CBC 2021-2027, w których Polska jest Instytucją Krajową</a:t>
            </a: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pic>
        <p:nvPicPr>
          <p:cNvPr id="1335" name="Diagram 2" descr=""/>
          <p:cNvPicPr/>
          <p:nvPr/>
        </p:nvPicPr>
        <p:blipFill>
          <a:blip r:embed="rId1"/>
          <a:stretch/>
        </p:blipFill>
        <p:spPr>
          <a:xfrm>
            <a:off x="1365120" y="1079640"/>
            <a:ext cx="7096320" cy="4065480"/>
          </a:xfrm>
          <a:prstGeom prst="rect">
            <a:avLst/>
          </a:prstGeom>
          <a:ln w="0">
            <a:noFill/>
          </a:ln>
        </p:spPr>
      </p:pic>
      <p:sp>
        <p:nvSpPr>
          <p:cNvPr id="1336" name="pole tekstowe 8"/>
          <p:cNvSpPr/>
          <p:nvPr/>
        </p:nvSpPr>
        <p:spPr>
          <a:xfrm>
            <a:off x="324000" y="1320840"/>
            <a:ext cx="4690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2f51"/>
                </a:solidFill>
                <a:latin typeface="Arial"/>
                <a:ea typeface="Lato Medium"/>
              </a:rPr>
              <a:t>Pierwsze posiedzenie </a:t>
            </a:r>
            <a:endParaRPr b="0" lang="en-US" sz="1700" spc="-1" strike="noStrike">
              <a:solidFill>
                <a:srgbClr val="192f5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2f51"/>
                </a:solidFill>
                <a:latin typeface="Arial"/>
                <a:ea typeface="Lato Medium"/>
              </a:rPr>
              <a:t>grupy roboczej ds. nowego programu </a:t>
            </a:r>
            <a:endParaRPr b="0" lang="en-US" sz="1700" spc="-1" strike="noStrike">
              <a:solidFill>
                <a:srgbClr val="192f51"/>
              </a:solidFill>
              <a:latin typeface="Calibri"/>
            </a:endParaRPr>
          </a:p>
        </p:txBody>
      </p:sp>
      <p:pic>
        <p:nvPicPr>
          <p:cNvPr id="1337" name="Grafika 7" descr="Kalendarz przekładany"/>
          <p:cNvPicPr/>
          <p:nvPr/>
        </p:nvPicPr>
        <p:blipFill>
          <a:blip r:embed="rId2"/>
          <a:stretch/>
        </p:blipFill>
        <p:spPr>
          <a:xfrm>
            <a:off x="108000" y="377496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338" name="pole tekstowe 8"/>
          <p:cNvSpPr/>
          <p:nvPr/>
        </p:nvSpPr>
        <p:spPr>
          <a:xfrm>
            <a:off x="414360" y="44593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92f51"/>
                </a:solidFill>
                <a:latin typeface="Lato Medium"/>
                <a:ea typeface="Lato Medium"/>
              </a:rPr>
              <a:t>2019</a:t>
            </a: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pic>
        <p:nvPicPr>
          <p:cNvPr id="1339" name="Grafika 7" descr="Kalendarz przekładany"/>
          <p:cNvPicPr/>
          <p:nvPr/>
        </p:nvPicPr>
        <p:blipFill>
          <a:blip r:embed="rId3"/>
          <a:stretch/>
        </p:blipFill>
        <p:spPr>
          <a:xfrm>
            <a:off x="7596360" y="41112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340" name="pole tekstowe 8"/>
          <p:cNvSpPr/>
          <p:nvPr/>
        </p:nvSpPr>
        <p:spPr>
          <a:xfrm>
            <a:off x="7902720" y="10954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92f51"/>
                </a:solidFill>
                <a:latin typeface="Lato Medium"/>
                <a:ea typeface="Lato Medium"/>
              </a:rPr>
              <a:t>2020</a:t>
            </a: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24000" y="267840"/>
            <a:ext cx="6913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Stan prac nad programami CBC, w których Polska jest Instytucją Krajową - perspektywa 2021-2027</a:t>
            </a: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pic>
        <p:nvPicPr>
          <p:cNvPr id="1342" name="Diagram 2" descr=""/>
          <p:cNvPicPr/>
          <p:nvPr/>
        </p:nvPicPr>
        <p:blipFill>
          <a:blip r:embed="rId1"/>
          <a:stretch/>
        </p:blipFill>
        <p:spPr>
          <a:xfrm>
            <a:off x="1116000" y="1079640"/>
            <a:ext cx="7058160" cy="4168800"/>
          </a:xfrm>
          <a:prstGeom prst="rect">
            <a:avLst/>
          </a:prstGeom>
          <a:ln w="0">
            <a:noFill/>
          </a:ln>
        </p:spPr>
      </p:pic>
      <p:pic>
        <p:nvPicPr>
          <p:cNvPr id="1343" name="Grafika 7" descr="Kalendarz przekładany"/>
          <p:cNvPicPr/>
          <p:nvPr/>
        </p:nvPicPr>
        <p:blipFill>
          <a:blip r:embed="rId2"/>
          <a:stretch/>
        </p:blipFill>
        <p:spPr>
          <a:xfrm>
            <a:off x="162000" y="38322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344" name="pole tekstowe 8"/>
          <p:cNvSpPr/>
          <p:nvPr/>
        </p:nvSpPr>
        <p:spPr>
          <a:xfrm>
            <a:off x="468360" y="45165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92f51"/>
                </a:solidFill>
                <a:latin typeface="Lato Medium"/>
                <a:ea typeface="Lato Medium"/>
              </a:rPr>
              <a:t>2021</a:t>
            </a: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345" name="pole tekstowe 8"/>
          <p:cNvSpPr/>
          <p:nvPr/>
        </p:nvSpPr>
        <p:spPr>
          <a:xfrm>
            <a:off x="395280" y="1419120"/>
            <a:ext cx="4691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2f51"/>
                </a:solidFill>
                <a:latin typeface="Arial"/>
                <a:ea typeface="Lato Medium"/>
              </a:rPr>
              <a:t>Planowany termin zatwierdzenia programu przez grupę roboczą</a:t>
            </a:r>
            <a:endParaRPr b="0" lang="en-US" sz="17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0560" y="267840"/>
            <a:ext cx="83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"/>
                <a:ea typeface="Lato Heavy"/>
              </a:rPr>
              <a:t>Zmiany legislacyjne związane z COVID-19</a:t>
            </a: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323640" y="1203120"/>
            <a:ext cx="856908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44546"/>
                </a:solidFill>
                <a:latin typeface="Arial"/>
              </a:rPr>
              <a:t>Ustawa o szczególnych rozwiązaniach wspierających realizację programów operacyjnych w związku z wystąpieniem COVID-19 w 2020 r. (tzw. specustawa funduszowa) - przyjęta przez Radę Ministrów w dniu 31 marca br., uchwalona przez Sejm w dniu 3 kwietnia; 17 kwietnia podpisana przez prezydenta (DZ.U. z 2020 r. poz. 694) – obowiązuje do 31.12.2020 r.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44546"/>
                </a:solidFill>
                <a:latin typeface="Arial"/>
              </a:rPr>
              <a:t>Celem ustawy jest zapewnienie płynnej realizacji i rozliczenia projektów dofinansowanych w ramach programów operacyjnych, w warunkach kryzysu wywołanego pandemią COVID-19. Proponowane rozwiązania umożliwiają instytucjom uczestniczącym w systemie wdrażania środków europejskich bardziej elastyczne podejście do zagrożeń dla prawidłowej realizacji projektów będących następstwem COVID-19, a jednocześnie pozwalają uwzględnić szczególne okoliczności, w jakich znaleźli się beneficjenci realizujący projekty, na które negatywnie wpłynęło wystąpienie pandemii. 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0560" y="195120"/>
            <a:ext cx="8389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"/>
                <a:ea typeface="Lato Heavy"/>
              </a:rPr>
              <a:t>Zmiany związane z COVID-19 – wprowadzone do Programów </a:t>
            </a:r>
            <a:br>
              <a:rPr sz="2000"/>
            </a:br>
            <a:r>
              <a:rPr b="0" lang="pl-PL" sz="1600" spc="-1" strike="noStrike">
                <a:solidFill>
                  <a:srgbClr val="003399"/>
                </a:solidFill>
                <a:latin typeface="Arial"/>
                <a:ea typeface="Lato Heavy"/>
              </a:rPr>
              <a:t>na podstawie (tzw. specustawy funduszowej)  i suplementów (programy zewnętrzne)</a:t>
            </a:r>
            <a:endParaRPr b="0" lang="en-US" sz="16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178920" y="1283040"/>
            <a:ext cx="8713800" cy="34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- wyrażanie zgody na wydłużenie okresu realizacji projektów,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2f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2f5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wydłużenie terminów składania wniosków o płatność,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2f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2f5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umożliwienie elektronicznego podpisywania np. umów czy aneksów,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2f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2f5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ułatwienia w raportowaniu,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- elastyczne podejście do terminów i formy przeprowadzania kontroli na miejscu,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- bardziej elastyczne podejście do oceny kwalifikowalności wydatków, na którą ma wpływ obecne zagrożenie epidemiczne.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0560" y="267840"/>
            <a:ext cx="83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"/>
                <a:ea typeface="Lato Heavy"/>
              </a:rPr>
              <a:t>Reakcja na COVID-19 – przykłady innych działań zastosowanych </a:t>
            </a:r>
            <a:br>
              <a:rPr sz="2000"/>
            </a:br>
            <a:r>
              <a:rPr b="1" lang="pl-PL" sz="2000" spc="-1" strike="noStrike">
                <a:solidFill>
                  <a:srgbClr val="003399"/>
                </a:solidFill>
                <a:latin typeface="Arial"/>
                <a:ea typeface="Lato Heavy"/>
              </a:rPr>
              <a:t>w programach Interreg</a:t>
            </a: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323640" y="1347480"/>
            <a:ext cx="8569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- Ogłoszenie specjalnych naborów w ramach Funduszu Małych Projektów ukierunkowanych na walkę z COVID-19 (Interreg Meklemburgia/ Pomorze Przednie-Brandenburgia-Polska).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- Zniesienie obowiązującego limitu 30 tys. euro na wykorzystanie przez beneficjentów oszczędności poprzetargowych (Interreg Polska - Słowacja).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-  Planowany nabór w 4 OP (Współpraca instytucji i społeczności) mający na celu niwelowanie negatywnych efektów pandemii, wznowienie współpracy i stworzenie trwałych platform i narzędzi pomagających współpracy na odległość (Interreg Republika Czeska-Polska).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2f5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250920" y="268200"/>
            <a:ext cx="864216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"/>
                <a:ea typeface="Lato Heavy"/>
              </a:rPr>
              <a:t>Reakcja na COVID-19 –  dodatkowe wsparcie w realizowanych projektach </a:t>
            </a:r>
            <a:br>
              <a:rPr sz="2000"/>
            </a:b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323640" y="1131840"/>
            <a:ext cx="85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Przeznaczenie 3 mln euro na walkę z epidemią COVID-19 i jej skutkami w Programie Polska-Białoruś-Ukraina 2014-2020 = dodatkowe wsparcie placówek medycznych m.in. w: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51"/>
              </a:spcBef>
              <a:buClr>
                <a:srgbClr val="192f5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Lato Medium"/>
              </a:rPr>
              <a:t>Tomaszowie Lubelskim,  Hrubieszowie, Ustrzykach Dolnych, Suwałkach, Ostrołęce, Łosicach 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51"/>
              </a:spcBef>
              <a:buClr>
                <a:srgbClr val="192f5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Lato Medium"/>
              </a:rPr>
              <a:t>Zhabince, Brześciu, Grodnie, Mińsku 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51"/>
              </a:spcBef>
              <a:buClr>
                <a:srgbClr val="192f5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Lato Medium"/>
              </a:rPr>
              <a:t>Lwowie, Starym Samborze, Sokal (Ukraina)  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192f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Arial"/>
              </a:rPr>
              <a:t>Zatrudnienie osób (w 2 projektach) monitorujących transgraniczny polsko-czeski rynek pracy w dobie pandemii i zapewniający pomoc pracownikom transgranicznym w uzyskaniu właściwych informacji (Program Czechy-Polska)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79280" y="-165600"/>
            <a:ext cx="87854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99"/>
                </a:solidFill>
                <a:latin typeface="Lato Heavy"/>
                <a:ea typeface="Lato Heavy"/>
              </a:rPr>
              <a:t>Przygotowanie zmiany Ustawy o szczególnych rozwiązaniach wspierających realizację programów operacyjnych w związku z wystąpieniem COVID-19 w 2020 r. (tzw. specustawa funduszowa) </a:t>
            </a:r>
            <a:endParaRPr b="0" lang="en-US" sz="18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323640" y="98748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44546"/>
                </a:solidFill>
                <a:latin typeface="Arial"/>
              </a:rPr>
              <a:t>Na początku września 2020 r. rozpoczęto prace nad zmianą specustawy funduszowej. Projekt jest gotowy do uzgodnień i konsultacji społecznych – obecnie oczekuje na wpis do wykazu prac rządu. 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44546"/>
                </a:solidFill>
                <a:latin typeface="Arial"/>
              </a:rPr>
              <a:t>Proponowane zmiany do specustawy funduszowej polegają m.in. na: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2f51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4445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44546"/>
                </a:solidFill>
                <a:latin typeface="Arial"/>
              </a:rPr>
              <a:t>wydłużeniu terminu stosowania ustawy do dnia 31 grudnia 2023 r.,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2f51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44454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44546"/>
                </a:solidFill>
                <a:latin typeface="Arial"/>
              </a:rPr>
              <a:t>objęciu Ustawą programów Europejskiego Instrumentu Sąsiedztwa,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44546"/>
                </a:solidFill>
                <a:latin typeface="Arial"/>
              </a:rPr>
              <a:t>- doprecyzowaniu zapisów dotyczących realizacji projektów (w tym np. ich wyboru, przedłużenia, składania wniosków o płatność, zakończenia).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258920" y="2211120"/>
            <a:ext cx="360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Dziękuję za uwagę.</a:t>
            </a:r>
            <a:br>
              <a:rPr sz="2000"/>
            </a:b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Rafał Baliński</a:t>
            </a:r>
            <a:br>
              <a:rPr sz="1400"/>
            </a:br>
            <a:r>
              <a:rPr b="1" lang="pl-PL" sz="1400" spc="-1" strike="noStrike">
                <a:solidFill>
                  <a:srgbClr val="003399"/>
                </a:solidFill>
                <a:latin typeface="Lato Heavy"/>
                <a:ea typeface="Lato Heavy"/>
              </a:rPr>
              <a:t>Dyrektor</a:t>
            </a:r>
            <a:br>
              <a:rPr sz="1400"/>
            </a:br>
            <a:r>
              <a:rPr b="1" lang="pl-PL" sz="1400" spc="-1" strike="noStrike">
                <a:solidFill>
                  <a:srgbClr val="003399"/>
                </a:solidFill>
                <a:latin typeface="Lato Heavy"/>
                <a:ea typeface="Lato Heavy"/>
              </a:rPr>
              <a:t>Departament Współpracy Terytorialnej</a:t>
            </a:r>
            <a:endParaRPr b="0" lang="en-US" sz="1400" spc="-1" strike="noStrike">
              <a:solidFill>
                <a:srgbClr val="003399"/>
              </a:solidFill>
              <a:latin typeface="Lato Heavy"/>
            </a:endParaRPr>
          </a:p>
        </p:txBody>
      </p:sp>
      <p:pic>
        <p:nvPicPr>
          <p:cNvPr id="1357" name="Picture 4" descr="C:\Users\JAROSL~2\AppData\Local\Temp\notesE9760C\white_logo_interreg30.png"/>
          <p:cNvPicPr/>
          <p:nvPr/>
        </p:nvPicPr>
        <p:blipFill>
          <a:blip r:embed="rId1"/>
          <a:stretch/>
        </p:blipFill>
        <p:spPr>
          <a:xfrm>
            <a:off x="1116000" y="3867120"/>
            <a:ext cx="347508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71360" y="12348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Przepisy UE dotyczące programów Interreg 2021-2027</a:t>
            </a:r>
            <a:br>
              <a:rPr sz="1600"/>
            </a:b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pic>
        <p:nvPicPr>
          <p:cNvPr id="1287" name="Picture 5" descr=""/>
          <p:cNvPicPr/>
          <p:nvPr/>
        </p:nvPicPr>
        <p:blipFill>
          <a:blip r:embed="rId1"/>
          <a:stretch/>
        </p:blipFill>
        <p:spPr>
          <a:xfrm>
            <a:off x="2763720" y="2317680"/>
            <a:ext cx="3614760" cy="506520"/>
          </a:xfrm>
          <a:prstGeom prst="rect">
            <a:avLst/>
          </a:prstGeom>
          <a:ln w="0">
            <a:noFill/>
          </a:ln>
        </p:spPr>
      </p:pic>
      <p:pic>
        <p:nvPicPr>
          <p:cNvPr id="1288" name="Picture 6" descr=""/>
          <p:cNvPicPr/>
          <p:nvPr/>
        </p:nvPicPr>
        <p:blipFill>
          <a:blip r:embed="rId2"/>
          <a:stretch/>
        </p:blipFill>
        <p:spPr>
          <a:xfrm>
            <a:off x="179280" y="2330280"/>
            <a:ext cx="3614760" cy="506520"/>
          </a:xfrm>
          <a:prstGeom prst="rect">
            <a:avLst/>
          </a:prstGeom>
          <a:ln w="0">
            <a:noFill/>
          </a:ln>
        </p:spPr>
      </p:pic>
      <p:pic>
        <p:nvPicPr>
          <p:cNvPr id="1289" name="Diagram 7" descr=""/>
          <p:cNvPicPr/>
          <p:nvPr/>
        </p:nvPicPr>
        <p:blipFill>
          <a:blip r:embed="rId3"/>
          <a:stretch/>
        </p:blipFill>
        <p:spPr>
          <a:xfrm>
            <a:off x="311040" y="841320"/>
            <a:ext cx="830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0920" y="244080"/>
            <a:ext cx="640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Prace nad rozporządzeniem Interreg 2021-2027</a:t>
            </a: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pic>
        <p:nvPicPr>
          <p:cNvPr id="1291" name="Diagram 11" descr=""/>
          <p:cNvPicPr/>
          <p:nvPr/>
        </p:nvPicPr>
        <p:blipFill>
          <a:blip r:embed="rId1"/>
          <a:stretch/>
        </p:blipFill>
        <p:spPr>
          <a:xfrm>
            <a:off x="146160" y="122400"/>
            <a:ext cx="8985240" cy="4413240"/>
          </a:xfrm>
          <a:prstGeom prst="rect">
            <a:avLst/>
          </a:prstGeom>
          <a:ln w="0">
            <a:noFill/>
          </a:ln>
        </p:spPr>
      </p:pic>
      <p:sp>
        <p:nvSpPr>
          <p:cNvPr id="1292" name="pole tekstowe 8"/>
          <p:cNvSpPr/>
          <p:nvPr/>
        </p:nvSpPr>
        <p:spPr>
          <a:xfrm>
            <a:off x="1539720" y="3254400"/>
            <a:ext cx="1654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Prezentacja rozporządzenia na  grupie roboczej ds. działań strukturalnych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B.05 i rozpoczęcie prac przez Radę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93" name="pole tekstowe 8"/>
          <p:cNvSpPr/>
          <p:nvPr/>
        </p:nvSpPr>
        <p:spPr>
          <a:xfrm>
            <a:off x="28440" y="3255840"/>
            <a:ext cx="1557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Projekt rozporządzenia Interreg jako część pakietu Rozporządzeń pakietu PS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94" name="pole tekstowe 8"/>
          <p:cNvSpPr/>
          <p:nvPr/>
        </p:nvSpPr>
        <p:spPr>
          <a:xfrm>
            <a:off x="3182760" y="3425760"/>
            <a:ext cx="146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Mandat COREPER do negocjacji z PE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95" name="pole tekstowe 8"/>
          <p:cNvSpPr/>
          <p:nvPr/>
        </p:nvSpPr>
        <p:spPr>
          <a:xfrm>
            <a:off x="4616280" y="3343320"/>
            <a:ext cx="17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Trilogi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międzyinstytucjonalne spotkania 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KE-PE-Rada 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96" name="pole tekstowe 8"/>
          <p:cNvSpPr/>
          <p:nvPr/>
        </p:nvSpPr>
        <p:spPr>
          <a:xfrm>
            <a:off x="6372360" y="3343320"/>
            <a:ext cx="146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Wstrzymanie prac przez COVID-19 zawieszenie trilogów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97" name="pole tekstowe 8"/>
          <p:cNvSpPr/>
          <p:nvPr/>
        </p:nvSpPr>
        <p:spPr>
          <a:xfrm>
            <a:off x="8026560" y="3254400"/>
            <a:ext cx="108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Przyjęcie przez Radę Europejską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NEGOBOX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Arial"/>
                <a:ea typeface="Lato Medium"/>
              </a:rPr>
              <a:t>(m.in. finansowanie Interreg)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298" name="pole tekstowe 8"/>
          <p:cNvSpPr/>
          <p:nvPr/>
        </p:nvSpPr>
        <p:spPr>
          <a:xfrm>
            <a:off x="2406600" y="968400"/>
            <a:ext cx="4330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2f51"/>
                </a:solidFill>
                <a:latin typeface="Arial"/>
                <a:ea typeface="Lato Medium"/>
              </a:rPr>
              <a:t>Proces negocjacji – stan obecny </a:t>
            </a:r>
            <a:endParaRPr b="0" lang="en-US" sz="1700" spc="-1" strike="noStrike">
              <a:solidFill>
                <a:srgbClr val="192f51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250920" y="12348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Koperta Interreg dla Polski na lata 2021-2027</a:t>
            </a:r>
            <a:br>
              <a:rPr sz="2000"/>
            </a:br>
            <a:r>
              <a:rPr b="0" lang="pl-PL" sz="1600" spc="-1" strike="noStrike">
                <a:solidFill>
                  <a:srgbClr val="003399"/>
                </a:solidFill>
                <a:latin typeface="Lato Heavy"/>
                <a:ea typeface="Lato Heavy"/>
              </a:rPr>
              <a:t>/dla 2021-2027 szacunkowy podział na komponenty A i B/</a:t>
            </a:r>
            <a:endParaRPr b="0" lang="en-US" sz="1600" spc="-1" strike="noStrike">
              <a:solidFill>
                <a:srgbClr val="003399"/>
              </a:solidFill>
              <a:latin typeface="Lato Heavy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1"/>
          <a:stretch/>
        </p:blipFill>
        <p:spPr>
          <a:xfrm>
            <a:off x="7451640" y="465120"/>
            <a:ext cx="1054080" cy="1054080"/>
          </a:xfrm>
          <a:prstGeom prst="rect">
            <a:avLst/>
          </a:prstGeom>
          <a:ln w="0">
            <a:noFill/>
          </a:ln>
        </p:spPr>
      </p:pic>
      <p:sp>
        <p:nvSpPr>
          <p:cNvPr id="1301" name="pole tekstowe 5"/>
          <p:cNvSpPr/>
          <p:nvPr/>
        </p:nvSpPr>
        <p:spPr>
          <a:xfrm>
            <a:off x="1258920" y="390060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92f51"/>
                </a:solidFill>
                <a:latin typeface="Lato Medium"/>
                <a:ea typeface="Lato Medium"/>
              </a:rPr>
              <a:t>Zmiana: 20,06%</a:t>
            </a:r>
            <a:endParaRPr b="0" lang="en-US" sz="1800" spc="-1" strike="noStrike">
              <a:solidFill>
                <a:srgbClr val="192f51"/>
              </a:solidFill>
              <a:latin typeface="Calibri"/>
            </a:endParaRPr>
          </a:p>
        </p:txBody>
      </p:sp>
      <p:sp>
        <p:nvSpPr>
          <p:cNvPr id="1302" name="pole tekstowe 8"/>
          <p:cNvSpPr/>
          <p:nvPr/>
        </p:nvSpPr>
        <p:spPr>
          <a:xfrm>
            <a:off x="270000" y="47149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92f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92f51"/>
                </a:solidFill>
                <a:latin typeface="Lato Medium"/>
                <a:ea typeface="Lato Medium"/>
              </a:rPr>
              <a:t>wszystkie kwoty w mln euro.</a:t>
            </a:r>
            <a:endParaRPr b="0" lang="en-US" sz="1200" spc="-1" strike="noStrike">
              <a:solidFill>
                <a:srgbClr val="192f51"/>
              </a:solidFill>
              <a:latin typeface="Calibri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611280" y="1708200"/>
          <a:ext cx="6748200" cy="2016000"/>
        </p:xfrm>
        <a:graphic>
          <a:graphicData uri="http://schemas.openxmlformats.org/drawingml/2006/table">
            <a:tbl>
              <a:tblPr/>
              <a:tblGrid>
                <a:gridCol w="2249280"/>
                <a:gridCol w="2249640"/>
                <a:gridCol w="224928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cd5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-2020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cd5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-2027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cd5ed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192f51"/>
                          </a:solidFill>
                          <a:latin typeface="Arial"/>
                        </a:rPr>
                        <a:t>kwota ogólna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192f51"/>
                          </a:solidFill>
                          <a:latin typeface="Arial"/>
                        </a:rPr>
                        <a:t>700,5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192f51"/>
                          </a:solidFill>
                          <a:latin typeface="Arial"/>
                        </a:rPr>
                        <a:t>560,0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192f51"/>
                          </a:solidFill>
                          <a:latin typeface="Arial"/>
                        </a:rPr>
                        <a:t>komponent A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7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192f51"/>
                          </a:solidFill>
                          <a:latin typeface="Arial"/>
                        </a:rPr>
                        <a:t>543,2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7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192f51"/>
                          </a:solidFill>
                          <a:latin typeface="Arial"/>
                        </a:rPr>
                        <a:t>445,6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7fc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192f51"/>
                          </a:solidFill>
                          <a:latin typeface="Arial"/>
                        </a:rPr>
                        <a:t>komponent B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192f51"/>
                          </a:solidFill>
                          <a:latin typeface="Arial"/>
                        </a:rPr>
                        <a:t>157,3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192f51"/>
                          </a:solidFill>
                          <a:latin typeface="Arial"/>
                        </a:rPr>
                        <a:t>114,4</a:t>
                      </a:r>
                      <a:endParaRPr b="0" lang="en-US" sz="1800" spc="-1" strike="noStrike">
                        <a:solidFill>
                          <a:srgbClr val="192f5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50560" y="26640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Przepisy dotyczące Interreg – postulaty Polski (1)</a:t>
            </a: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pic>
        <p:nvPicPr>
          <p:cNvPr id="1305" name="Obraz 2" descr="Obraz zawierający trzymający, kobieta, ręka, dziewczynka&#10;&#10;Opis wygenerowany automatycznie"/>
          <p:cNvPicPr/>
          <p:nvPr/>
        </p:nvPicPr>
        <p:blipFill>
          <a:blip r:embed="rId1"/>
          <a:stretch/>
        </p:blipFill>
        <p:spPr>
          <a:xfrm>
            <a:off x="7523280" y="12762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306" name="Diagram 3" descr=""/>
          <p:cNvPicPr/>
          <p:nvPr/>
        </p:nvPicPr>
        <p:blipFill>
          <a:blip r:embed="rId2"/>
          <a:stretch/>
        </p:blipFill>
        <p:spPr>
          <a:xfrm>
            <a:off x="603360" y="1195560"/>
            <a:ext cx="6858000" cy="3547800"/>
          </a:xfrm>
          <a:prstGeom prst="rect">
            <a:avLst/>
          </a:prstGeom>
          <a:ln w="0">
            <a:noFill/>
          </a:ln>
        </p:spPr>
      </p:pic>
      <p:pic>
        <p:nvPicPr>
          <p:cNvPr id="1307" name="Obraz 4" descr="Obraz zawierający trzymający, kobieta, ręka, dziewczynka&#10;&#10;Opis wygenerowany automatycznie"/>
          <p:cNvPicPr/>
          <p:nvPr/>
        </p:nvPicPr>
        <p:blipFill>
          <a:blip r:embed="rId3"/>
          <a:stretch/>
        </p:blipFill>
        <p:spPr>
          <a:xfrm>
            <a:off x="7570800" y="24462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308" name="Obraz 5" descr="Obraz zawierający trzymający, kobieta, ręka, dziewczynka&#10;&#10;Opis wygenerowany automatycznie"/>
          <p:cNvPicPr/>
          <p:nvPr/>
        </p:nvPicPr>
        <p:blipFill>
          <a:blip r:embed="rId4"/>
          <a:stretch/>
        </p:blipFill>
        <p:spPr>
          <a:xfrm>
            <a:off x="7661160" y="3579840"/>
            <a:ext cx="105912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250920" y="275760"/>
            <a:ext cx="820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Przepisy dotyczące Interreg – postulaty Polski (2)</a:t>
            </a: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pic>
        <p:nvPicPr>
          <p:cNvPr id="1310" name="Diagram 4" descr=""/>
          <p:cNvPicPr/>
          <p:nvPr/>
        </p:nvPicPr>
        <p:blipFill>
          <a:blip r:embed="rId1"/>
          <a:stretch/>
        </p:blipFill>
        <p:spPr>
          <a:xfrm>
            <a:off x="530280" y="1274760"/>
            <a:ext cx="8265960" cy="3583080"/>
          </a:xfrm>
          <a:prstGeom prst="rect">
            <a:avLst/>
          </a:prstGeom>
          <a:ln w="0">
            <a:noFill/>
          </a:ln>
        </p:spPr>
      </p:pic>
      <p:pic>
        <p:nvPicPr>
          <p:cNvPr id="1311" name="Obraz 7" descr="Obraz zawierający trzymający, kobieta, ręka, dziewczynka&#10;&#10;Opis wygenerowany automatycznie"/>
          <p:cNvPicPr/>
          <p:nvPr/>
        </p:nvPicPr>
        <p:blipFill>
          <a:blip r:embed="rId2"/>
          <a:stretch/>
        </p:blipFill>
        <p:spPr>
          <a:xfrm>
            <a:off x="7523280" y="12762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312" name="Obraz 9" descr="Obraz zawierający trzymający, kobieta, ręka, dziewczynka&#10;&#10;Opis wygenerowany automatycznie"/>
          <p:cNvPicPr/>
          <p:nvPr/>
        </p:nvPicPr>
        <p:blipFill>
          <a:blip r:embed="rId3"/>
          <a:stretch/>
        </p:blipFill>
        <p:spPr>
          <a:xfrm>
            <a:off x="7635960" y="314784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50920" y="307800"/>
            <a:ext cx="8137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Przepisy dotyczące Interreg – postulaty Polski (3)</a:t>
            </a: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pic>
        <p:nvPicPr>
          <p:cNvPr id="1314" name="Diagram 4" descr=""/>
          <p:cNvPicPr/>
          <p:nvPr/>
        </p:nvPicPr>
        <p:blipFill>
          <a:blip r:embed="rId1"/>
          <a:stretch/>
        </p:blipFill>
        <p:spPr>
          <a:xfrm>
            <a:off x="530280" y="1274760"/>
            <a:ext cx="7076880" cy="3559320"/>
          </a:xfrm>
          <a:prstGeom prst="rect">
            <a:avLst/>
          </a:prstGeom>
          <a:ln w="0">
            <a:noFill/>
          </a:ln>
        </p:spPr>
      </p:pic>
      <p:pic>
        <p:nvPicPr>
          <p:cNvPr id="1315" name="Obraz 7" descr="Obraz zawierający trzymający, kobieta, ręka, dziewczynka&#10;&#10;Opis wygenerowany automatycznie"/>
          <p:cNvPicPr/>
          <p:nvPr/>
        </p:nvPicPr>
        <p:blipFill>
          <a:blip r:embed="rId2"/>
          <a:stretch/>
        </p:blipFill>
        <p:spPr>
          <a:xfrm>
            <a:off x="7523280" y="12762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316" name="Obraz 9" descr="Obraz zawierający trzymający, kobieta, ręka, dziewczynka&#10;&#10;Opis wygenerowany automatycznie"/>
          <p:cNvPicPr/>
          <p:nvPr/>
        </p:nvPicPr>
        <p:blipFill>
          <a:blip r:embed="rId3"/>
          <a:stretch/>
        </p:blipFill>
        <p:spPr>
          <a:xfrm>
            <a:off x="7635960" y="314784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250560" y="267840"/>
            <a:ext cx="8389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Lato Heavy"/>
                <a:ea typeface="Lato Heavy"/>
              </a:rPr>
              <a:t>Przepisy dotyczące FMP w Interreg 2021-2027</a:t>
            </a:r>
            <a:endParaRPr b="0" lang="en-US" sz="2000" spc="-1" strike="noStrike">
              <a:solidFill>
                <a:srgbClr val="003399"/>
              </a:solidFill>
              <a:latin typeface="Lato Heavy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323640" y="1203120"/>
            <a:ext cx="856908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Arial"/>
              </a:rPr>
              <a:t>Art. 24 rozporządzenia Interreg – Fundusz Małych Projektów</a:t>
            </a:r>
            <a:endParaRPr b="0" lang="en-US" sz="20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--  alokacja: max 20 mln euro EFRR / 15% (niższa z tych kwot) </a:t>
            </a:r>
            <a:r>
              <a:rPr b="0" lang="pl-PL" sz="1800" spc="-1" strike="noStrike">
                <a:solidFill>
                  <a:srgbClr val="e21d2c"/>
                </a:solidFill>
                <a:latin typeface="Arial"/>
              </a:rPr>
              <a:t>???* 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--  beneficjent FMP: transgraniczny podmiot z osobowością prawną lub 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     EUWT, lub inny podmiot z osobowością prawną </a:t>
            </a:r>
            <a:r>
              <a:rPr b="0" lang="pl-PL" sz="1800" spc="-1" strike="noStrike">
                <a:solidFill>
                  <a:srgbClr val="e21d2c"/>
                </a:solidFill>
                <a:latin typeface="Arial"/>
              </a:rPr>
              <a:t>???*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21d2c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-- koszty zarządzania - maksymalnie  20% kwalifikowalnych kosztów FMP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-- obowiązkowe stosowanie uproszczeń w rozliczaniu projektów o 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    wartości do 100 tys. euro EFRR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Inne przepisy powiązane z FMP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-- koncentracja tematyczna – 15% / do 15% / co najmniej 10%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???*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 na 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   cel Interreg (PO 6) – art. 15 Interreg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Arial"/>
              </a:rPr>
              <a:t>* kwestie nieuzgodnione</a:t>
            </a:r>
            <a:endParaRPr b="0" lang="en-US" sz="12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250920" y="1635120"/>
            <a:ext cx="8137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99"/>
                </a:solidFill>
                <a:latin typeface="Arial"/>
              </a:rPr>
              <a:t>Stan przygotowania programów transgranicznych Interreg 2021-2027 z udziałem Polski</a:t>
            </a:r>
            <a:endParaRPr b="0" lang="en-US" sz="2400" spc="-1" strike="noStrike">
              <a:solidFill>
                <a:srgbClr val="192f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09:06:18Z</dcterms:created>
  <dc:creator>Klaudia Szymczak</dc:creator>
  <dc:description/>
  <dc:language>en-US</dc:language>
  <cp:lastModifiedBy>Daria</cp:lastModifiedBy>
  <cp:lastPrinted>2019-02-14T12:11:35Z</cp:lastPrinted>
  <dcterms:modified xsi:type="dcterms:W3CDTF">2020-09-30T14:47:05Z</dcterms:modified>
  <cp:revision>554</cp:revision>
  <dc:subject/>
  <dc:title>Prezentacja programu PowerPoint</dc:title>
</cp:coreProperties>
</file>