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038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038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A6E5-4FF8-4124-883B-13093291225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ymbol zastępczy numeru slajdu 3"/>
          <p:cNvSpPr/>
          <p:nvPr/>
        </p:nvSpPr>
        <p:spPr>
          <a:xfrm>
            <a:off x="39038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4164-1D26-430B-9460-D3AF85A2D32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ymbol zastępczy numeru slajdu 3"/>
          <p:cNvSpPr/>
          <p:nvPr/>
        </p:nvSpPr>
        <p:spPr>
          <a:xfrm>
            <a:off x="39038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8A27-679F-40AF-8335-ADB999EF702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1FFC-21E4-4350-9E16-23C417C36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90F1-7614-4CCE-9D0A-F165B5AA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7CCF-5782-417A-9576-B4FB9AE5A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5A5E-8EEE-4B18-89BF-479E2AB86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293B-9118-4A99-A00C-CBD21F6F7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11FF-794C-4BC8-BE20-A1FC8A44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C6BD-EB5D-4E06-9DF8-01E16A83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84D3-6DC2-4A11-B1D7-A328AD0B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12EC-D2E5-4454-9038-1DFCA944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0D58-53FC-4C87-871F-8AACD562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BFB2-FF18-4ABC-859D-315391BE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AE5F-FEA1-4A10-BE61-9F4C40DD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CECC-17E7-4507-B2FD-1BE8B7A3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2B99-502B-4D67-BD16-52A3BD93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5333-6710-4964-BA80-8EDFDE2C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5C7A-3FDF-4FA7-97A8-111B06AA6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1220-49EB-48FF-969F-998BE2F24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4744-2F67-4421-BC23-C5149D62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3B57-452D-4039-A8E2-ECF37886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5559-18B5-4F2E-8BA8-E9BB9B90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F476-18BC-40F8-9DF1-C54C7A71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54A7-D5CF-412B-A9D5-0DF8BB92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FC03-95BB-4208-A942-2EEF941C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5ECA-30FB-4971-8266-FD4C15E8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68E2-3898-47D5-9DC7-605DC8BA2626}" type="slidenum">
              <a:rPr b="1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7982-7F3A-4FCC-A0BB-01037C524747}" type="slidenum">
              <a:rPr b="0" lang="pl-PL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1197000"/>
            <a:ext cx="80326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186920" y="1484280"/>
            <a:ext cx="7201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d2db9"/>
                </a:solidFill>
                <a:latin typeface="Calibri"/>
                <a:ea typeface="Times New Roman"/>
              </a:rPr>
              <a:t>Forum Regionów Granicznych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2d2db9"/>
                </a:solidFill>
                <a:latin typeface="Calibri"/>
                <a:ea typeface="Times New Roman"/>
              </a:rPr>
              <a:t>Racibórz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2d2db9"/>
                </a:solidFill>
                <a:latin typeface="Calibri"/>
                <a:ea typeface="Times New Roman"/>
              </a:rPr>
              <a:t>2 października 2020 roku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84c6a"/>
                </a:solidFill>
                <a:latin typeface="Trebuchet MS"/>
              </a:rPr>
              <a:t>Typy mikroprojektów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d2db9"/>
                </a:solidFill>
                <a:latin typeface="Calibri"/>
              </a:rPr>
              <a:t>W zależności od sposobu włączenia partnera zagranicznego </a:t>
            </a:r>
            <a:br>
              <a:rPr sz="2400"/>
            </a:br>
            <a:r>
              <a:rPr b="0" lang="pl-PL" sz="2400" spc="-1" strike="noStrike">
                <a:solidFill>
                  <a:srgbClr val="2d2db9"/>
                </a:solidFill>
                <a:latin typeface="Calibri"/>
              </a:rPr>
              <a:t>w przygotowanie i realizację mikroprojektu wyodrębnia się następujące rodzaje projektów: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algn="just"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d2db9"/>
                </a:solidFill>
                <a:latin typeface="Calibri"/>
              </a:rPr>
              <a:t>z partnerem wiodącym (wspólne - typ A)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algn="just"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d2db9"/>
                </a:solidFill>
                <a:latin typeface="Calibri"/>
              </a:rPr>
              <a:t>partnerskie/komplementarne (typ - B),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algn="just"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d2db9"/>
                </a:solidFill>
                <a:latin typeface="Calibri"/>
              </a:rPr>
              <a:t>samodzielne (typ - C),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00000" y="549000"/>
            <a:ext cx="8002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d2db9"/>
                </a:solidFill>
                <a:latin typeface="Calibri"/>
                <a:ea typeface="Calibri"/>
              </a:rPr>
              <a:t>• </a:t>
            </a:r>
            <a:r>
              <a:rPr b="0" lang="pl-PL" sz="1800" spc="-1" strike="noStrike">
                <a:solidFill>
                  <a:srgbClr val="2d2db9"/>
                </a:solidFill>
                <a:latin typeface="Calibri"/>
                <a:ea typeface="Calibri"/>
              </a:rPr>
              <a:t>dofinansowanie dla projektów typu A z EFRR (85%) </a:t>
            </a: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d2db9"/>
                </a:solidFill>
                <a:latin typeface="Calibri"/>
                <a:ea typeface="Calibri"/>
              </a:rPr>
              <a:t>- min. 2 000 EUR – max. 40 000 EUR (oś priorytetowa 3 i 4)</a:t>
            </a: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d2db9"/>
                </a:solidFill>
                <a:latin typeface="Calibri"/>
                <a:ea typeface="Calibri"/>
              </a:rPr>
              <a:t> </a:t>
            </a:r>
            <a:r>
              <a:rPr b="0" lang="pl-PL" sz="1800" spc="-1" strike="noStrike">
                <a:solidFill>
                  <a:srgbClr val="2d2db9"/>
                </a:solidFill>
                <a:latin typeface="Calibri"/>
                <a:ea typeface="Calibri"/>
              </a:rPr>
              <a:t>- min. 2 000 EUR - max. 60 000 EUR (oś priorytetowa 2) </a:t>
            </a: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d2db9"/>
                </a:solidFill>
                <a:latin typeface="Calibri"/>
                <a:ea typeface="Calibri"/>
              </a:rPr>
              <a:t>• </a:t>
            </a:r>
            <a:r>
              <a:rPr b="0" lang="pl-PL" sz="1800" spc="-1" strike="noStrike">
                <a:solidFill>
                  <a:srgbClr val="2d2db9"/>
                </a:solidFill>
                <a:latin typeface="Calibri"/>
                <a:ea typeface="Calibri"/>
              </a:rPr>
              <a:t>maksymalna kwota wydatków całkowitych mikroprojektu </a:t>
            </a: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d2db9"/>
                </a:solidFill>
                <a:latin typeface="Calibri"/>
                <a:ea typeface="Calibri"/>
              </a:rPr>
              <a:t>- max. 80 000 EUR (oś priorytetowa 3 i 4) </a:t>
            </a: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d2db9"/>
                </a:solidFill>
                <a:latin typeface="Calibri"/>
                <a:ea typeface="Calibri"/>
              </a:rPr>
              <a:t>- max. 120 000 EUR (oś priorytetowa 2)</a:t>
            </a: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d2db9"/>
                </a:solidFill>
                <a:latin typeface="Calibri"/>
                <a:ea typeface="Calibri"/>
              </a:rPr>
              <a:t>• </a:t>
            </a:r>
            <a:r>
              <a:rPr b="0" lang="pl-PL" sz="1800" spc="-1" strike="noStrike">
                <a:solidFill>
                  <a:srgbClr val="2d2db9"/>
                </a:solidFill>
                <a:latin typeface="Calibri"/>
                <a:ea typeface="Calibri"/>
              </a:rPr>
              <a:t>dofinansowanie dla projektów typu B i C z EFRR (85%) </a:t>
            </a: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d2db9"/>
                </a:solidFill>
                <a:latin typeface="Calibri"/>
                <a:ea typeface="Calibri"/>
              </a:rPr>
              <a:t>- min. 2 000 EUR – max. 20 000 EUR (oś priorytetowa 3 i 4) </a:t>
            </a: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d2db9"/>
                </a:solidFill>
                <a:latin typeface="Calibri"/>
                <a:ea typeface="Calibri"/>
              </a:rPr>
              <a:t>- min. 2 000 EUR - max. 30 000 EUR (oś priorytetowa 2) </a:t>
            </a: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d2db9"/>
                </a:solidFill>
                <a:latin typeface="Calibri"/>
                <a:ea typeface="Calibri"/>
              </a:rPr>
              <a:t>• </a:t>
            </a:r>
            <a:r>
              <a:rPr b="0" lang="pl-PL" sz="1800" spc="-1" strike="noStrike">
                <a:solidFill>
                  <a:srgbClr val="2d2db9"/>
                </a:solidFill>
                <a:latin typeface="Calibri"/>
                <a:ea typeface="Calibri"/>
              </a:rPr>
              <a:t>maksymalna kwota wydatków całkowitych mikroprojektu </a:t>
            </a: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d2db9"/>
                </a:solidFill>
                <a:latin typeface="Calibri"/>
                <a:ea typeface="Calibri"/>
              </a:rPr>
              <a:t>- max. 40 000 EUR (oś priorytetowa 3 i 4) </a:t>
            </a: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d2db9"/>
                </a:solidFill>
                <a:latin typeface="Calibri"/>
                <a:ea typeface="Calibri"/>
              </a:rPr>
              <a:t>- max. 60 000 EUR (oś priorytetowa 2)</a:t>
            </a: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buClr>
                <a:srgbClr val="80808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94920" y="1125000"/>
            <a:ext cx="807732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84c6a"/>
              </a:solidFill>
              <a:latin typeface="Trebuchet MS"/>
            </a:endParaRPr>
          </a:p>
          <a:p>
            <a:pPr algn="ctr">
              <a:lnSpc>
                <a:spcPct val="12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2d2db9"/>
                </a:solidFill>
                <a:latin typeface="Trebuchet MS"/>
              </a:rPr>
              <a:t>Osie priorytetowe</a:t>
            </a:r>
            <a:endParaRPr b="0" lang="en-US" sz="4800" spc="-1" strike="noStrike">
              <a:solidFill>
                <a:srgbClr val="284c6a"/>
              </a:solidFill>
              <a:latin typeface="Trebuchet MS"/>
            </a:endParaRPr>
          </a:p>
          <a:p>
            <a:pPr algn="just"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d2db9"/>
                </a:solidFill>
                <a:latin typeface="Calibri"/>
                <a:ea typeface="Calibri"/>
              </a:rPr>
              <a:t>Oś priorytetowa 2: Rozwój potencjału przyrodniczego </a:t>
            </a:r>
            <a:br>
              <a:rPr sz="2400"/>
            </a:br>
            <a:r>
              <a:rPr b="1" lang="pl-PL" sz="2400" spc="-1" strike="noStrike">
                <a:solidFill>
                  <a:srgbClr val="2d2db9"/>
                </a:solidFill>
                <a:latin typeface="Calibri"/>
                <a:ea typeface="Calibri"/>
              </a:rPr>
              <a:t>i kulturowego na rzecz wspierania zatrudnienia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algn="just"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d2db9"/>
                </a:solidFill>
                <a:latin typeface="Calibri"/>
                <a:ea typeface="Calibri"/>
              </a:rPr>
              <a:t>Oś priorytetowa 3: Edukacja i kwalifikacje 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algn="just"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d2db9"/>
                </a:solidFill>
                <a:latin typeface="Calibri"/>
                <a:ea typeface="Calibri"/>
              </a:rPr>
              <a:t>Oś priorytetowa 4: Współpraca instytucji i społeczności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algn="ctr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 algn="ctr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84c6a"/>
                </a:solidFill>
                <a:latin typeface="Calibri"/>
                <a:ea typeface="Calibri"/>
              </a:rPr>
              <a:t>Oś priorytetowa 2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4920" y="191628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d2db9"/>
                </a:solidFill>
                <a:latin typeface="Calibri"/>
                <a:ea typeface="Calibri"/>
              </a:rPr>
              <a:t>Oś priorytetowa 2: Rozwój potencjału przyrodniczego </a:t>
            </a:r>
            <a:br>
              <a:rPr sz="2400"/>
            </a:br>
            <a:r>
              <a:rPr b="1" lang="pl-PL" sz="2400" spc="-1" strike="noStrike">
                <a:solidFill>
                  <a:srgbClr val="2d2db9"/>
                </a:solidFill>
                <a:latin typeface="Calibri"/>
                <a:ea typeface="Calibri"/>
              </a:rPr>
              <a:t>i kulturowego na rzecz wspierania zatrudnienia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algn="just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algn="just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d2db9"/>
                </a:solidFill>
                <a:latin typeface="Calibri"/>
                <a:ea typeface="Calibri"/>
              </a:rPr>
              <a:t>Cel szczegółowy – Zwiększenie odwiedzalności regionu poprzez większe wykorzystanie potencjału zasobów przyrodniczych </a:t>
            </a:r>
            <a:br>
              <a:rPr sz="2400"/>
            </a:br>
            <a:r>
              <a:rPr b="0" lang="pl-PL" sz="2400" spc="-1" strike="noStrike">
                <a:solidFill>
                  <a:srgbClr val="2d2db9"/>
                </a:solidFill>
                <a:latin typeface="Calibri"/>
                <a:ea typeface="Calibri"/>
              </a:rPr>
              <a:t>i kulturowych 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988640"/>
            <a:ext cx="807732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d2db9"/>
                </a:solidFill>
                <a:latin typeface="Calibri"/>
                <a:ea typeface="Calibri"/>
              </a:rPr>
              <a:t>Wskaźniki produktu w ramach OP 2</a:t>
            </a:r>
            <a:br>
              <a:rPr sz="2800"/>
            </a:br>
            <a:r>
              <a:rPr b="0" lang="pl-PL" sz="4400" spc="-1" strike="noStrike">
                <a:solidFill>
                  <a:srgbClr val="2d2db9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91628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d2db9"/>
                </a:solidFill>
                <a:latin typeface="Calibri"/>
                <a:ea typeface="Calibri"/>
              </a:rPr>
              <a:t>Liczba elementów bogactwa kulturowego / przyrodniczego o podniesionej atrakcyjności </a:t>
            </a: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d2db9"/>
                </a:solidFill>
                <a:latin typeface="Calibri"/>
                <a:ea typeface="Calibri"/>
              </a:rPr>
              <a:t>Liczba elementów infrastruktury udostępniającej /zwiększającej wykorzystanie dziedzictwa przyrodniczego i kulturowego </a:t>
            </a: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d2db9"/>
                </a:solidFill>
                <a:latin typeface="Calibri"/>
                <a:ea typeface="Calibri"/>
              </a:rPr>
              <a:t>Liczba zrealizowanych wspólnych mechanizmów w zakresie dziedzictwa kulturowego i przyrodniczego</a:t>
            </a:r>
            <a:br>
              <a:rPr sz="2400"/>
            </a:br>
            <a:r>
              <a:rPr b="0" lang="pl-PL" sz="2400" spc="-1" strike="noStrike">
                <a:solidFill>
                  <a:srgbClr val="2d2db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052280"/>
            <a:ext cx="80773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24000" y="1268280"/>
            <a:ext cx="80769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d2db9"/>
                </a:solidFill>
                <a:latin typeface="Calibri"/>
                <a:ea typeface="Calibri"/>
              </a:rPr>
              <a:t>Cel głównych wspieranych działań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algn="just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algn="just"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d2db9"/>
                </a:solidFill>
                <a:latin typeface="Calibri"/>
                <a:ea typeface="Calibri"/>
              </a:rPr>
              <a:t>zwiększenia zdolności do przyjmowania turystów; 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algn="just"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d2db9"/>
                </a:solidFill>
                <a:latin typeface="Calibri"/>
                <a:ea typeface="Calibri"/>
              </a:rPr>
              <a:t>rozszerzenia kręgu potencjalnych odwiedzających; 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algn="just"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d2db9"/>
                </a:solidFill>
                <a:latin typeface="Calibri"/>
                <a:ea typeface="Calibri"/>
              </a:rPr>
              <a:t>wydłużenia sezonu turystycznego. </a:t>
            </a:r>
            <a:r>
              <a:rPr b="0" lang="pl-PL" sz="2400" spc="-1" strike="noStrike">
                <a:solidFill>
                  <a:srgbClr val="284c6a"/>
                </a:solidFill>
                <a:latin typeface="Calibri"/>
                <a:ea typeface="Calibri"/>
              </a:rPr>
              <a:t>	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algn="just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6840" y="1341360"/>
            <a:ext cx="80773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d2db9"/>
                </a:solidFill>
                <a:latin typeface="Calibri"/>
                <a:ea typeface="Calibri"/>
              </a:rPr>
              <a:t>Oś priorytetowa 3: Edukacja i kwalifikacje 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algn="just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d2db9"/>
                </a:solidFill>
                <a:latin typeface="Calibri"/>
                <a:ea typeface="Calibri"/>
              </a:rPr>
              <a:t>Cel szczegółowy: Zwiększenie poziomu zatrudniania absolwentów.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algn="just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d2db9"/>
                </a:solidFill>
                <a:latin typeface="Calibri"/>
                <a:ea typeface="Calibri"/>
              </a:rPr>
              <a:t>Mikroprojekty mające na celu edukację, podnoszenie kwalifikacji i kształcenie ustawiczne, są to mikroprojekty zorientowanie na poprawę szans przyszłych absolwentów </a:t>
            </a:r>
            <a:br>
              <a:rPr sz="2400"/>
            </a:br>
            <a:r>
              <a:rPr b="0" lang="pl-PL" sz="2400" spc="-1" strike="noStrike">
                <a:solidFill>
                  <a:srgbClr val="2d2db9"/>
                </a:solidFill>
                <a:latin typeface="Calibri"/>
                <a:ea typeface="Calibri"/>
              </a:rPr>
              <a:t>na rynku pracy poprzez podnoszenie ich kwalifikacji.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68000" y="14130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d2db9"/>
                </a:solidFill>
                <a:latin typeface="Calibri"/>
                <a:ea typeface="Calibri"/>
              </a:rPr>
              <a:t>Wskaźnik: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algn="just"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d2db9"/>
                </a:solidFill>
                <a:latin typeface="Calibri"/>
                <a:ea typeface="Calibri"/>
              </a:rPr>
              <a:t>Liczba uczestników wspólnych programów edukacyjnych oraz przygotowania zawodowego w celu transgranicznego wspierania zatrudnienia młodzieży, zwiększania możliwości edukacyjnych, kształcenia wyższego i przygotowania zawodowego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94920" y="191628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d2db9"/>
                </a:solidFill>
                <a:latin typeface="Calibri"/>
                <a:ea typeface="Calibri"/>
              </a:rPr>
              <a:t>Oś priorytetowa 4: Współpraca instytucji i społeczności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d2db9"/>
                </a:solidFill>
                <a:latin typeface="Calibri"/>
                <a:ea typeface="Calibri"/>
              </a:rPr>
              <a:t>Cel szczegółowy: zwiększenie intensywności współpracy instytucji i społeczności w regionie przygranicznym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d2db9"/>
                </a:solidFill>
                <a:latin typeface="Calibri"/>
                <a:ea typeface="Calibri"/>
              </a:rPr>
              <a:t>Wskaźnik: 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d2db9"/>
                </a:solidFill>
                <a:latin typeface="Calibri"/>
                <a:ea typeface="Calibri"/>
              </a:rPr>
              <a:t>Liczba partnerów zaangażowanych we wspólne działania 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916280"/>
            <a:ext cx="80773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284c6a"/>
                </a:solidFill>
                <a:latin typeface="Calibri"/>
              </a:rPr>
              <a:t>  </a:t>
            </a: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284c6a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24000" y="1125000"/>
            <a:ext cx="80769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algn="just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d2db9"/>
                </a:solidFill>
                <a:latin typeface="Calibri"/>
              </a:rPr>
              <a:t>W ramach projektu mogą być realizowane przedsięwzięcia inwestycyjne towarzyszące działaniom nie inwestycyjnym, które mają charakter uzupełniający i są niezbędne do realizacji celów projektu.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algn="just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d2db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algn="just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d2db9"/>
                </a:solidFill>
                <a:latin typeface="Calibri"/>
              </a:rPr>
              <a:t>Działania inwestycyjne (budowa i rekonstrukcja infrastruktury) nie mogą być realizowane samodzielnie w ramach projektu. </a:t>
            </a:r>
            <a:r>
              <a:rPr b="0" lang="pl-PL" sz="2000" spc="-1" strike="noStrike">
                <a:solidFill>
                  <a:srgbClr val="2d2db9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algn="just"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1197000"/>
            <a:ext cx="80326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115640" y="2133720"/>
            <a:ext cx="72010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  <a:p>
            <a:pPr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d2db9"/>
                </a:solidFill>
                <a:latin typeface="Calibri"/>
              </a:rPr>
              <a:t>Fundusz Mikroprojektów 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  <a:p>
            <a:pPr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d2db9"/>
                </a:solidFill>
                <a:latin typeface="Calibri"/>
                <a:ea typeface="Calibri"/>
              </a:rPr>
              <a:t>Interreg V-A </a:t>
            </a:r>
            <a:br>
              <a:rPr sz="4000"/>
            </a:br>
            <a:r>
              <a:rPr b="1" lang="pl-PL" sz="4000" spc="-1" strike="noStrike">
                <a:solidFill>
                  <a:srgbClr val="2d2db9"/>
                </a:solidFill>
                <a:latin typeface="Calibri"/>
                <a:ea typeface="Calibri"/>
              </a:rPr>
              <a:t>Republika Czeska – Polska</a:t>
            </a:r>
            <a:r>
              <a:rPr b="1" lang="pl-PL" sz="4000" spc="-1" strike="noStrike">
                <a:solidFill>
                  <a:srgbClr val="284c6a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84c6a"/>
                </a:solidFill>
                <a:latin typeface="Calibri"/>
                <a:ea typeface="Calibri"/>
              </a:rPr>
              <a:t>Wdrażanie FM w liczbach (stan na 31.08.2020)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0" y="836640"/>
          <a:ext cx="9144000" cy="5959440"/>
        </p:xfrm>
        <a:graphic>
          <a:graphicData uri="http://schemas.openxmlformats.org/drawingml/2006/table">
            <a:tbl>
              <a:tblPr/>
              <a:tblGrid>
                <a:gridCol w="1004760"/>
                <a:gridCol w="1189080"/>
                <a:gridCol w="760320"/>
                <a:gridCol w="846360"/>
                <a:gridCol w="747720"/>
                <a:gridCol w="588960"/>
                <a:gridCol w="942840"/>
                <a:gridCol w="588960"/>
                <a:gridCol w="981000"/>
                <a:gridCol w="747720"/>
                <a:gridCol w="746280"/>
              </a:tblGrid>
              <a:tr h="14158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łoś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O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lość wniosków dofinansowanych w ramach OP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O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lość wniosków dofinansowanych w ramach OP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O 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lość wniosków dofinansowanych w ramach OP 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ość wniosków dofinasowanych raz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rtość refundacji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lość projekty zakończon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44440">
                <a:tc gridSpan="11"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uroregion Pradzi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6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lokacja na F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 216 142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464 843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 751 299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 169 856,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746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Zatwierdzone do dofinansowa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 651 205,6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106 287,7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 544 917,9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76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yczerpana alokacja w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0,9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5,4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9,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4588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uroregion Beskid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746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lokacja na F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 057 450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834 470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222 980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42 400,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76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Zatwierdzone do dofinansowa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157 884,66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150 960,09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006 884,5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746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yczerpana alokacja w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0,5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2,7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2,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0"/>
          <a:ext cx="9144000" cy="6669000"/>
        </p:xfrm>
        <a:graphic>
          <a:graphicData uri="http://schemas.openxmlformats.org/drawingml/2006/table">
            <a:tbl>
              <a:tblPr/>
              <a:tblGrid>
                <a:gridCol w="1069920"/>
                <a:gridCol w="1179720"/>
                <a:gridCol w="753840"/>
                <a:gridCol w="704880"/>
                <a:gridCol w="876240"/>
                <a:gridCol w="582840"/>
                <a:gridCol w="936360"/>
                <a:gridCol w="584280"/>
                <a:gridCol w="973080"/>
                <a:gridCol w="741600"/>
                <a:gridCol w="741240"/>
              </a:tblGrid>
              <a:tr h="1515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łoś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O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lość wniosków dofinansowanych w ramach OP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O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lość wniosków dofinansowanych w ramach OP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O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lość wniosków dofinansowanych w ramach OP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lość wniosków dofinasowanych raz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rtość refundacji 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lość projekty zakończon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39840">
                <a:tc gridSpan="11"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uroregion Sile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44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lokacja na F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 926 996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842 645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07 108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 777 243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046 020,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7462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Zatwierdzone do dofinansowa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 160 979,61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506 147,8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8 086,23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 526 745,56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7459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yczerpana alokacja w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7,0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1,7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1,7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3,3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39840">
                <a:tc gridSpan="11"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uroregion Śląsk Cieszyńsk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44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lokacja na F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 855 889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185 150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42 795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427 944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312 115,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462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Zatwierdzone do dofinansowa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 406 299,7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867 303,47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1 156,66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437 784,62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459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yczerpana alokacja w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0,7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5,4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1,6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,4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942840"/>
                <a:gridCol w="1203480"/>
                <a:gridCol w="770040"/>
                <a:gridCol w="718920"/>
                <a:gridCol w="893880"/>
                <a:gridCol w="595440"/>
                <a:gridCol w="955440"/>
                <a:gridCol w="595440"/>
                <a:gridCol w="992160"/>
                <a:gridCol w="757080"/>
                <a:gridCol w="719280"/>
              </a:tblGrid>
              <a:tr h="14842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łoś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O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lość wniosków dofinansowanych w ramach OP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O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lość wniosków dofinansowanych w ramach OP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O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lość wniosków dofinansowanych w ramach OP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lość wniosków dofinasowanych raz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rtość refundacji 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lość projekty zakończon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30120">
                <a:tc gridSpan="11"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uroregion Nysa (dane dotyczą tylko strony polskie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lokacja na F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 052 234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420 894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 631 340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44 830,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</a:tr>
              <a:tr h="7300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Zatwierdzone do dofinansowa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 115 691,88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19 964,34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195 690,54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</a:tr>
              <a:tr h="73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yczerpana alokacja w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1,4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8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0,4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</a:tr>
              <a:tr h="331560">
                <a:tc gridSpan="11"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uroregion Glacen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lokacja na F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 030 064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 053 647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 976 417,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 089 076,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</a:tr>
              <a:tr h="7286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Zatwierdzone do dofinansowa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 780 478,16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 729 961,85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 050 399,31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</a:tr>
              <a:tr h="7300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yczerpana alokacja w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7,5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2,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7,7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</a:tr>
              <a:tr h="33192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AZ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789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789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789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5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789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789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789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789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789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3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789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789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789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37800"/>
            <a:ext cx="807696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d2db9"/>
                </a:solidFill>
                <a:latin typeface="Calibri"/>
                <a:ea typeface="Calibri"/>
              </a:rPr>
              <a:t>Wdrażanie FM we wskaźnikach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0" y="398520"/>
          <a:ext cx="9144000" cy="6421320"/>
        </p:xfrm>
        <a:graphic>
          <a:graphicData uri="http://schemas.openxmlformats.org/drawingml/2006/table">
            <a:tbl>
              <a:tblPr/>
              <a:tblGrid>
                <a:gridCol w="981000"/>
                <a:gridCol w="1252440"/>
                <a:gridCol w="801720"/>
                <a:gridCol w="930240"/>
                <a:gridCol w="709920"/>
                <a:gridCol w="620640"/>
                <a:gridCol w="619200"/>
                <a:gridCol w="930240"/>
                <a:gridCol w="684000"/>
                <a:gridCol w="993960"/>
                <a:gridCol w="620640"/>
              </a:tblGrid>
              <a:tr h="136980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łoś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O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1002 - elementy infrastruktury o zwiększonej atrakcyjności PO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1001 - elementy infrastruktury PO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1003 - wspólne mechanizmy PO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O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6600 - ilość uczestników PO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O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1101 - ilość partnerów PO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36600">
                <a:tc gridSpan="11"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uroregion Pradzi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836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lokacja na F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 216 142,00 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464 843,00 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lość wskaźników do wykona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 751 299,00 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3980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Zatwierdzone do dofinansowa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 651 205,62 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106 287,70 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lość wskaźników wykonany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 544 917,92 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3800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yczerpana alokacja w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0,9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5,4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skaźniki wykonane w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5,7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7,6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40,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9,0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0,5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82600">
                <a:tc gridSpan="2"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uroregion Beskid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73836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lokacja na F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 057 450,00 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834 470,00 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lość wskaźników do wykona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222 980,00 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73980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Zatwierdzone do dofinansowa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157 844,66 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150 960,09 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lość wskaźników wykonany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006 884,57 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73800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yczerpana alokacja w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0,5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2,7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skaźniki wykonane w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76,9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6,1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2,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2,3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1,1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981000"/>
                <a:gridCol w="1252440"/>
                <a:gridCol w="801720"/>
                <a:gridCol w="930240"/>
                <a:gridCol w="709920"/>
                <a:gridCol w="620640"/>
                <a:gridCol w="619200"/>
                <a:gridCol w="930240"/>
                <a:gridCol w="684000"/>
                <a:gridCol w="993960"/>
                <a:gridCol w="620640"/>
              </a:tblGrid>
              <a:tr h="145080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łoś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O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lość wniosków dofinansowanych w ramach OP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1002 - elementy infrastruktury o zwiększonej atrakcyjności PO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1001 - elementy infrastruktury PO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1003 - wspólne mechanizmy PO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O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6600 - ilość uczestników PO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O 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1101 - ilość partnerów PO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55680">
                <a:tc gridSpan="11"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uroregion Siles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264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lokacja na F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 926 996,00 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842 645,00 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lość wskaźników do wykona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07 108,00 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 777 243,00 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78264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Zatwierdzone do dofinansowa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 160 979,61 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506 147,82 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lość wskaźników wykonany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8 086,23 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 526 745,56 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78264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yczerpana alokacja w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7,0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1,7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skaźniki wykonane w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0,5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66,6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6,9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1,7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76,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3,3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2,1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55680">
                <a:tc gridSpan="11"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uroregion Śląsk Cieszyńs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264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lokacja na F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 855 889,00 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185 150,00 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lość wskaźników do wykona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42 795,00 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427 944,00 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8264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Zatwierdzone do dofinansowa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 406 244,75 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867 303,47 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lość wskaźników wykonany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1 156,66 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437 784,62 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8264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yczerpana alokacja w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0,7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5,4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skaźniki wykonane w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8,7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63,6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1,0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1,6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39,1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,4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5,4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-17640" y="1476360"/>
          <a:ext cx="9161640" cy="5329080"/>
        </p:xfrm>
        <a:graphic>
          <a:graphicData uri="http://schemas.openxmlformats.org/drawingml/2006/table">
            <a:tbl>
              <a:tblPr/>
              <a:tblGrid>
                <a:gridCol w="1168560"/>
                <a:gridCol w="1189080"/>
                <a:gridCol w="765000"/>
                <a:gridCol w="1106640"/>
                <a:gridCol w="682560"/>
                <a:gridCol w="588960"/>
                <a:gridCol w="590760"/>
                <a:gridCol w="885600"/>
                <a:gridCol w="654120"/>
                <a:gridCol w="939960"/>
                <a:gridCol w="590400"/>
              </a:tblGrid>
              <a:tr h="351000">
                <a:tc gridSpan="11"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uroregion Nysa (dane dotyczą tylko strony polskiej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148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lokacja na F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 052 234,00 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420 894,00 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lość wskaźników do wykona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 631 340,00 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</a:tr>
              <a:tr h="77148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Zatwierdzone do dofinansowa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 115 654,88 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19 964,34 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lość wskaźników wykonany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195 690,54 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</a:tr>
              <a:tr h="77004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yczerpana alokacja w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1,4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8,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skaźniki wykonane w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6,3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2,8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37,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0,4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4,8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</a:tr>
              <a:tr h="350640">
                <a:tc gridSpan="11"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uroregion Glacens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148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lokacja na F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 030 064,00 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 053 647,00 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lość wskaźników do wykona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 976 417,00 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</a:tr>
              <a:tr h="77148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Zatwierdzone do dofinansowa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 780 361,16 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 729 961,85 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lość wskaźników wykonany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 050 399,31 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</a:tr>
              <a:tr h="77148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yczerpana alokacja w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7,5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2,0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skaźniki wykonane w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,6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2,4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16,6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7,7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8,0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0" y="15840"/>
          <a:ext cx="9144000" cy="1451160"/>
        </p:xfrm>
        <a:graphic>
          <a:graphicData uri="http://schemas.openxmlformats.org/drawingml/2006/table">
            <a:tbl>
              <a:tblPr/>
              <a:tblGrid>
                <a:gridCol w="1116000"/>
                <a:gridCol w="1224000"/>
                <a:gridCol w="792000"/>
                <a:gridCol w="1008360"/>
                <a:gridCol w="718920"/>
                <a:gridCol w="649440"/>
                <a:gridCol w="576000"/>
                <a:gridCol w="760680"/>
                <a:gridCol w="684000"/>
                <a:gridCol w="993960"/>
                <a:gridCol w="620640"/>
              </a:tblGrid>
              <a:tr h="145116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łoś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O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lość wniosków dofinansowanych w ramach OP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1002 - elementy infrastruktury o zwiększonej atrakcyjności PO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1001 - elementy infrastruktury PO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1003 - wspólne mechanizmy PO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O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6600 - ilość uczestników PO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O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1101 - ilość partnerów PO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98600" y="475920"/>
            <a:ext cx="8146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d2db9"/>
                </a:solidFill>
                <a:latin typeface="Calibri"/>
              </a:rPr>
              <a:t>Dziękuję  za uwagę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d2db9"/>
                </a:solidFill>
                <a:latin typeface="Calibri"/>
              </a:rPr>
              <a:t>Bernadeta Tambor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d2db9"/>
                </a:solidFill>
                <a:latin typeface="Calibri"/>
              </a:rPr>
              <a:t>Sekretarz EG, Dyrektor Biura SGPEG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algn="ctr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135" name="Picture 5" descr="logo EURG"/>
          <p:cNvPicPr/>
          <p:nvPr/>
        </p:nvPicPr>
        <p:blipFill>
          <a:blip r:embed="rId1"/>
          <a:stretch/>
        </p:blipFill>
        <p:spPr>
          <a:xfrm>
            <a:off x="3564000" y="3573360"/>
            <a:ext cx="1728720" cy="17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94920" y="981000"/>
            <a:ext cx="79930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undusz Mikroprojektów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est narzędziem służącym do wspierania projektów o mniejszej wartości finansowej, które mają lokalne znaczeni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charakteryzują się wpływem transgranicznym. 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algn="just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dstawowym celem Funduszu Mikroprojektów jest rozwijani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wspomaganie współpracy pomiędzy społecznościami po obu stronach granicy, z ukierunkowaniem na wspólną poprawę stosunków kulturalnych, społecznych i gospodarczych. Mikroprojekty są ukierunkowan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szczególności na rozwój transgranicznych stosunków międzyludzkich, działań oświatowych i kulturalnych oraz inicjatyw obywatelskich. Dofinansowywać można także mikroprojekty, których celem jest poprawa infrastruktury danego obszaru, w szczególności w zakresie infrastruktury turystycznej o oddziaływaniu transgranicznym.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94" name="Obrázek 3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8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94920" y="1125000"/>
            <a:ext cx="807732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d2db9"/>
                </a:solidFill>
                <a:latin typeface="Calibri"/>
              </a:rPr>
              <a:t>Środki finansowe przeznaczone do wykorzystania w ramach Funduszu Mikroprojektów stanowią 20% środków Programu Interreg V-A Republika Czeska - Polska, łącznie </a:t>
            </a:r>
            <a:br>
              <a:rPr sz="2400"/>
            </a:br>
            <a:r>
              <a:rPr b="1" lang="pl-PL" sz="2400" spc="-1" strike="noStrike">
                <a:solidFill>
                  <a:srgbClr val="2d2db9"/>
                </a:solidFill>
                <a:latin typeface="Calibri"/>
              </a:rPr>
              <a:t>45 244 343 EUR.</a:t>
            </a:r>
            <a:r>
              <a:rPr b="0" lang="pl-PL" sz="2400" spc="-1" strike="noStrike">
                <a:solidFill>
                  <a:srgbClr val="2d2db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algn="just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d2db9"/>
                </a:solidFill>
                <a:latin typeface="Calibri"/>
              </a:rPr>
              <a:t>Podział środków na poszczególnych Zarządzających FM został uzgodniony przez struktury terytorialne i regionalne.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algn="just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d2db9"/>
                </a:solidFill>
                <a:latin typeface="Calibri"/>
                <a:ea typeface="Times New Roman"/>
              </a:rPr>
              <a:t>Środki finansowe alokowane do Funduszu Mikroprojektów zostały podzielone następująco pomiędzy 6 euroregionów.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algn="just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 algn="ctr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8595b"/>
                </a:solidFill>
                <a:latin typeface="Tahoma"/>
                <a:ea typeface="Calibri"/>
              </a:rPr>
              <a:t>Liczba i wartość mikroprojektów w euro realizowanych przez euroregiony na pograniczu polsko-czeskim ze środków Unii Europejskiej</a:t>
            </a:r>
            <a:br>
              <a:rPr sz="2000"/>
            </a:b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1125360"/>
          <a:ext cx="9144000" cy="5732640"/>
        </p:xfrm>
        <a:graphic>
          <a:graphicData uri="http://schemas.openxmlformats.org/drawingml/2006/table">
            <a:tbl>
              <a:tblPr/>
              <a:tblGrid>
                <a:gridCol w="1033560"/>
                <a:gridCol w="1157040"/>
                <a:gridCol w="1159200"/>
                <a:gridCol w="1158840"/>
                <a:gridCol w="1158840"/>
                <a:gridCol w="1158840"/>
                <a:gridCol w="1158840"/>
                <a:gridCol w="1158840"/>
              </a:tblGrid>
              <a:tr h="5922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y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lacen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adzi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le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Śląsk Cieszyńs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eski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az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HARE CRE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38 6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14 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02 8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HARE CB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 014 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180 3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41 8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131 8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76 8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 045 4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TERREG II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525 0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371 4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062 7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97 5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69 2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8 7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 794 8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82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OWT RCZ-RP 2007-2013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 86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 093 2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 868 3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 918 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 924 1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661 5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8 180 8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terreg V-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 052 2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 134 1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 216 1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 142 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 855 8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 057 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8 457 9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az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 506 9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4 317 8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 989 0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 090 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 740 3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 887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4 382 0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5600">
                <a:tc row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iczba zrealizowanych projektów transgraniczny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8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0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 0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901880"/>
                <a:gridCol w="1774800"/>
                <a:gridCol w="1773360"/>
                <a:gridCol w="1773000"/>
                <a:gridCol w="1920960"/>
              </a:tblGrid>
              <a:tr h="34776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uroreg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P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P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P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az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3336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ysa P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554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331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 885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</a:tr>
              <a:tr h="34596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ysa C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66 8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300 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167 2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</a:tr>
              <a:tr h="34776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azem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420 8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 631 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 052 2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</a:tr>
              <a:tr h="33336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lacensis P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00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 00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 00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34596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lacensis C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053 6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 080 4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 134 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34776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azem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 053 6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 080 4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 134 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33336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adziad P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498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 495 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 994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4596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adziad C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66 6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255 4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 222 1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4776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azem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464 8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 751 2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 216 1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336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lesia P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168 4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94 7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531 7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 894 9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4776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lesia C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74 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2 3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460 6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247 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4596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az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842 6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07 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 992 3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 142 1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3336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Śląsk Cieszyński P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354 4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0 4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504 9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 009 8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4776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Śląsk Cieszyński C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30 7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2 3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23 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846 0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4596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az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185 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42 7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427 9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 855 8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3336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eskidy P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400 9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33 9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334 9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4776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eskidy C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33 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89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22 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4596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az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834 4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222 9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 057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4776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UM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789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 801 6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789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49 9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789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3 106 4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789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8 457 9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789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8744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Calibri"/>
              </a:rPr>
              <a:t>OBSZAR POGRANICZA DLA WNIOSKODAWCÓW I PARTNERÓW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Calibri"/>
              </a:rPr>
              <a:t>W EUROREGIONIE GLACENSIS</a:t>
            </a:r>
            <a:br>
              <a:rPr sz="1600"/>
            </a:b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860120" y="3306240"/>
            <a:ext cx="8077320" cy="4496040"/>
          </a:xfrm>
          <a:prstGeom prst="rect">
            <a:avLst/>
          </a:prstGeom>
          <a:ln w="0">
            <a:noFill/>
          </a:ln>
        </p:spPr>
      </p:pic>
      <p:pic>
        <p:nvPicPr>
          <p:cNvPr id="102" name="Obraz 23" descr=""/>
          <p:cNvPicPr/>
          <p:nvPr/>
        </p:nvPicPr>
        <p:blipFill>
          <a:blip r:embed="rId2"/>
          <a:stretch/>
        </p:blipFill>
        <p:spPr>
          <a:xfrm>
            <a:off x="755640" y="1125360"/>
            <a:ext cx="7527960" cy="559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476280"/>
            <a:ext cx="8507520" cy="57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algn="just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algn="just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99"/>
                </a:solidFill>
                <a:latin typeface="Open Sans"/>
              </a:rPr>
              <a:t>Fundusz Mikroprojektów jest zarządzany przez sekretariaty euroregionów, które oferują konsultacje dla wnioskodawców </a:t>
            </a:r>
            <a:br>
              <a:rPr sz="2400"/>
            </a:br>
            <a:r>
              <a:rPr b="0" lang="pl-PL" sz="2400" spc="-1" strike="noStrike">
                <a:solidFill>
                  <a:srgbClr val="000099"/>
                </a:solidFill>
                <a:latin typeface="Open Sans"/>
              </a:rPr>
              <a:t>i partnerów projektu. Wnioski o dofinansowanie składane są przez PW w generatorze wniosków (mseu.mssf.cz). </a:t>
            </a:r>
            <a:br>
              <a:rPr sz="2400"/>
            </a:br>
            <a:r>
              <a:rPr b="0" lang="pl-PL" sz="2400" spc="-1" strike="noStrike">
                <a:solidFill>
                  <a:srgbClr val="000099"/>
                </a:solidFill>
                <a:latin typeface="Open Sans"/>
              </a:rPr>
              <a:t>O dofinansowaniu mikroprojektów decyduje bilateralny czesko-polski Euroregionalny Komitet Sterujący, wyznaczony dla każdego Funduszu Mikroprojektów z osobna. 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d2db9"/>
                </a:solidFill>
                <a:latin typeface="Trebuchet MS"/>
              </a:rPr>
              <a:t>Finansowanie mikroprojektów: </a:t>
            </a:r>
            <a:br>
              <a:rPr sz="4400"/>
            </a:b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d2db9"/>
                </a:solidFill>
                <a:latin typeface="Trebuchet MS"/>
              </a:rPr>
              <a:t>Po polskiej stronie: </a:t>
            </a: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 algn="just">
              <a:lnSpc>
                <a:spcPct val="125000"/>
              </a:lnSpc>
              <a:spcBef>
                <a:spcPts val="451"/>
              </a:spcBef>
              <a:buClr>
                <a:srgbClr val="80808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d2db9"/>
                </a:solidFill>
                <a:latin typeface="Trebuchet MS"/>
              </a:rPr>
              <a:t>max. 85% z Europejskiego Funduszu Rozwoju Regionalnego (EFRR) </a:t>
            </a: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 algn="just">
              <a:lnSpc>
                <a:spcPct val="125000"/>
              </a:lnSpc>
              <a:spcBef>
                <a:spcPts val="451"/>
              </a:spcBef>
              <a:buClr>
                <a:srgbClr val="80808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d2db9"/>
                </a:solidFill>
                <a:latin typeface="Trebuchet MS"/>
              </a:rPr>
              <a:t>- 5% z budżetu państwa Rzeczpospolitej Polskiej </a:t>
            </a: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 algn="just">
              <a:lnSpc>
                <a:spcPct val="125000"/>
              </a:lnSpc>
              <a:spcBef>
                <a:spcPts val="451"/>
              </a:spcBef>
              <a:buClr>
                <a:srgbClr val="80808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d2db9"/>
                </a:solidFill>
                <a:latin typeface="Trebuchet MS"/>
              </a:rPr>
              <a:t>- 10% ze środków własnych wnioskodawcy (Mikrobeneficjenta)</a:t>
            </a: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 algn="just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d2db9"/>
                </a:solidFill>
                <a:latin typeface="Trebuchet MS"/>
              </a:rPr>
              <a:t>Po czeskiej stronie: </a:t>
            </a: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 algn="just">
              <a:lnSpc>
                <a:spcPct val="125000"/>
              </a:lnSpc>
              <a:spcBef>
                <a:spcPts val="451"/>
              </a:spcBef>
              <a:buClr>
                <a:srgbClr val="80808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d2db9"/>
                </a:solidFill>
                <a:latin typeface="Trebuchet MS"/>
              </a:rPr>
              <a:t>max. 85% z Europejskiego Funduszu Rozwoju Regionalnego (EFRR) </a:t>
            </a: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 algn="just">
              <a:lnSpc>
                <a:spcPct val="125000"/>
              </a:lnSpc>
              <a:spcBef>
                <a:spcPts val="451"/>
              </a:spcBef>
              <a:buClr>
                <a:srgbClr val="80808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d2db9"/>
                </a:solidFill>
                <a:latin typeface="Trebuchet MS"/>
              </a:rPr>
              <a:t>- 15% ze środków własnych wnioskodawcy (Mikrobeneficjenta) </a:t>
            </a: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0T07:38:44Z</dcterms:created>
  <dc:creator>Dariusz Tatka</dc:creator>
  <dc:description/>
  <dc:language>en-US</dc:language>
  <cp:lastModifiedBy>Daria</cp:lastModifiedBy>
  <cp:lastPrinted>2020-10-01T08:47:00Z</cp:lastPrinted>
  <dcterms:modified xsi:type="dcterms:W3CDTF">2020-10-02T05:29:07Z</dcterms:modified>
  <cp:revision>255</cp:revision>
  <dc:subject/>
  <dc:title>Prezentacja szkoleniow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2561681045</vt:lpwstr>
  </property>
</Properties>
</file>